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99397"/>
        <c:axId val="43937453"/>
      </c:barChart>
      <c:catAx>
        <c:axId val="13199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37453"/>
        <c:crosses val="autoZero"/>
        <c:auto val="1"/>
        <c:lblAlgn val="ctr"/>
        <c:lblOffset val="100"/>
        <c:noMultiLvlLbl val="0"/>
      </c:catAx>
      <c:valAx>
        <c:axId val="43937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99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087-ADB1-4B46-B189-BADBF888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1067-982B-4D05-9396-AA4AD55B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E90-BDA3-403E-86B9-08B29AB3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CC75-18FD-4AC1-800D-94BE06B0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9C8-E6BB-4345-9ADB-D9EF089B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36E-E50C-4CB6-B811-B586AF7D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110-D8F9-41A2-B467-8EB187E5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377-F0BF-44C2-B80D-653E64FF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DDF-39A9-44FD-BC40-60B6CC81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0F4-DC26-49BE-AD5E-E4793EF1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05E-9090-4B67-8B66-5FC5B605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D69-9FE7-47B1-89C7-504B3BD7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F8EAC-226E-47B9-939A-37FD71E445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