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69416"/>
        <c:axId val="66741990"/>
      </c:barChart>
      <c:catAx>
        <c:axId val="89369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41990"/>
        <c:crosses val="autoZero"/>
        <c:auto val="1"/>
        <c:lblAlgn val="ctr"/>
        <c:lblOffset val="100"/>
        <c:noMultiLvlLbl val="0"/>
      </c:catAx>
      <c:valAx>
        <c:axId val="66741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9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189-E70B-43EA-9F8A-021AAC03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492-A867-47B0-8F64-F132A35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FA4-B82E-46C4-8F93-E3E7EE5B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C32-27EC-499D-847F-54F9D5DF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700-4A8B-4E48-AA2A-25558F8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8FA-6F95-4CCA-A4DA-752E6ECE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2D4-22A8-47F3-92EA-97961C2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7C4-3DE3-4B37-B4A9-1AFF741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880-C770-4DEF-9FED-4ADBECC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0E1-5962-4871-9DED-8A34C86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748-57E1-4C42-8276-904104D3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0A3-3AAD-4107-A703-0408969F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1927-4DCD-49EE-B6E8-D70FDE7FE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