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8391"/>
        <c:axId val="11243848"/>
      </c:barChart>
      <c:catAx>
        <c:axId val="6098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3848"/>
        <c:crosses val="autoZero"/>
        <c:auto val="1"/>
        <c:lblAlgn val="ctr"/>
        <c:lblOffset val="100"/>
        <c:noMultiLvlLbl val="0"/>
      </c:catAx>
      <c:valAx>
        <c:axId val="11243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8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AA2-244C-4764-94F3-AF7D7BE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3BC-CA23-4000-AB77-23DCA0B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71B-566A-4AF2-AEBD-8863BB91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665-A8AB-4D9A-9F0B-06F04E1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9D2-5699-4554-82E6-BD66367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ECC-C49D-448C-9E1C-F2E61A6A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AE6-24FF-45E4-A20D-E9E6498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34A-F530-4697-9F26-12D48F5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6E2-79EB-4E26-B040-E7CF8FE7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A46-BA6B-4405-9F4A-E3DF124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83B-9A8A-4EEA-92F8-49CAA2E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06D-61E4-4318-BB41-1EE6FCB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05B0-751C-45B3-9888-3A0A4FCD3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