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56693"/>
        <c:axId val="96106411"/>
      </c:barChart>
      <c:catAx>
        <c:axId val="12856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06411"/>
        <c:crosses val="autoZero"/>
        <c:auto val="1"/>
        <c:lblAlgn val="ctr"/>
        <c:lblOffset val="100"/>
        <c:noMultiLvlLbl val="0"/>
      </c:catAx>
      <c:valAx>
        <c:axId val="96106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56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0A3-3A4E-4194-92F9-401987F3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BDA-6BD8-4CF2-B3D3-449BB5FF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E97-7D64-400E-A5AD-715A4239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005-31A0-41E5-A2F5-7C16A266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79A-71A0-4FBA-A551-24EA5742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EE0-F628-45C6-84E4-99357CE3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780-370D-4843-8253-79807A13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C78-CA93-4B47-A877-CDB92EFB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804-6F5A-481F-A0A4-8774F431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652-231B-407D-83B1-521F94C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F4C-EB5D-4E00-9BF2-F5556223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2AD-C205-481E-9157-5455FCA4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51893-18B8-4EF4-A24E-970AC22146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