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41797"/>
        <c:axId val="40773039"/>
      </c:barChart>
      <c:catAx>
        <c:axId val="13441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73039"/>
        <c:crosses val="autoZero"/>
        <c:auto val="1"/>
        <c:lblAlgn val="ctr"/>
        <c:lblOffset val="100"/>
        <c:noMultiLvlLbl val="0"/>
      </c:catAx>
      <c:valAx>
        <c:axId val="40773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41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DED-F983-4092-9E1F-43D7E889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F15-5827-4CDB-88A2-61B24D1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780-F8F6-4424-90A4-E643F0E7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692-2826-4B54-BBA2-E9B63BD1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ABF-83D5-4D10-8F12-5EC44A2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055-F962-421D-B854-C33E2633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9E1-9788-4E61-AD96-3CE5D999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FB9-2E83-430F-AD37-8964758B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E73-63D3-47B1-B1E5-C5A162F9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FEF-D15D-4789-8DD2-73651B3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7D7-0B2E-4F47-8282-6B6F250B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1C6-8FC6-4561-95CC-162B67DD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25FE4-0687-483F-A6E0-D3B4991D4A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