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594344"/>
        <c:axId val="46705563"/>
      </c:barChart>
      <c:catAx>
        <c:axId val="175943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05563"/>
        <c:crosses val="autoZero"/>
        <c:auto val="1"/>
        <c:lblAlgn val="ctr"/>
        <c:lblOffset val="100"/>
        <c:noMultiLvlLbl val="0"/>
      </c:catAx>
      <c:valAx>
        <c:axId val="467055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5943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E83B-2512-4EEA-9C98-3B2EAACEC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4DF6-1690-4467-A506-8F5ABE2C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2CF5-8BB8-47F8-BFCB-38AE681B3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32D2-34B5-4290-81FB-2BCB34A66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860A-03A2-4095-928B-97392D68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4018-D9D3-45E4-87A1-C60987F3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A604-CE25-4E13-97BC-14F87823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297C-50BF-416D-9B33-52F472A9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B219-104A-495E-BC7A-0C427A29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1CF4-172C-4E0E-B6E3-24E03B8F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4D25-27F2-4332-AEB8-461686E7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4D9F-634F-4596-823F-B85B2CFA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96E23-8484-4611-8CCB-2986FF41A4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