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2.wmf" ContentType="image/x-wmf"/>
  <Override PartName="/ppt/media/image9.wmf" ContentType="image/x-wmf"/>
  <Override PartName="/ppt/media/image13.wmf" ContentType="image/x-wmf"/>
  <Override PartName="/ppt/media/image5.png" ContentType="image/png"/>
  <Override PartName="/ppt/media/image17.png" ContentType="image/png"/>
  <Override PartName="/ppt/media/image16.wmf" ContentType="image/x-wmf"/>
  <Override PartName="/ppt/media/image1.png" ContentType="image/png"/>
  <Override PartName="/ppt/media/image3.jpeg" ContentType="image/jpeg"/>
  <Override PartName="/ppt/media/image14.wmf" ContentType="image/x-wmf"/>
  <Override PartName="/ppt/media/image6.png" ContentType="image/png"/>
  <Override PartName="/ppt/media/image4.jpeg" ContentType="image/jpeg"/>
  <Override PartName="/ppt/media/image10.wmf" ContentType="image/x-wmf"/>
  <Override PartName="/ppt/media/image2.png" ContentType="image/png"/>
  <Override PartName="/ppt/media/image15.wmf" ContentType="image/x-wmf"/>
  <Override PartName="/ppt/media/image7.png" ContentType="image/png"/>
  <Override PartName="/ppt/media/image11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90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86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92.xml.rels" ContentType="application/vnd.openxmlformats-package.relationships+xml"/>
  <Override PartName="/ppt/slides/_rels/slide39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88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78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7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60.xml" ContentType="application/vnd.openxmlformats-officedocument.presentationml.slide+xml"/>
  <Override PartName="/ppt/slides/slide61.xml" ContentType="application/vnd.openxmlformats-officedocument.presentationml.slide+xml"/>
  <Override PartName="/ppt/slides/slide62.xml" ContentType="application/vnd.openxmlformats-officedocument.presentationml.slide+xml"/>
  <Override PartName="/ppt/slides/slide6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69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6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2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</p:sldIdLst>
  <p:sldSz cx="9144000" cy="6858000"/>
  <p:notesSz cx="7150100" cy="94503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149600" cy="945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4"/>
          </p:nvPr>
        </p:nvSpPr>
        <p:spPr>
          <a:xfrm>
            <a:off x="4051080" y="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212480" y="708120"/>
            <a:ext cx="4724280" cy="3543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move the slide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953640" y="4487760"/>
            <a:ext cx="524196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5"/>
          </p:nvPr>
        </p:nvSpPr>
        <p:spPr>
          <a:xfrm>
            <a:off x="0" y="8975880"/>
            <a:ext cx="309888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6"/>
          </p:nvPr>
        </p:nvSpPr>
        <p:spPr>
          <a:xfrm>
            <a:off x="4051080" y="8975880"/>
            <a:ext cx="3098520" cy="47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b">
            <a:noAutofit/>
          </a:bodyPr>
          <a:lstStyle>
            <a:lvl1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47880"/>
                <a:tab algn="l" pos="1895400"/>
                <a:tab algn="l" pos="2843280"/>
                <a:tab algn="l" pos="3790800"/>
                <a:tab algn="l" pos="4738680"/>
                <a:tab algn="l" pos="5686560"/>
                <a:tab algn="l" pos="6634080"/>
                <a:tab algn="l" pos="7581960"/>
                <a:tab algn="l" pos="8529480"/>
                <a:tab algn="l" pos="9477360"/>
                <a:tab algn="l" pos="10425240"/>
              </a:tabLst>
            </a:pPr>
            <a:fld id="{98043732-DB43-48EF-8BE3-301CD4B066E2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1212840" y="708120"/>
            <a:ext cx="4724280" cy="354312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713880" y="4487760"/>
            <a:ext cx="5721480" cy="4253040"/>
          </a:xfrm>
          <a:prstGeom prst="rect">
            <a:avLst/>
          </a:prstGeom>
          <a:noFill/>
          <a:ln w="0">
            <a:noFill/>
          </a:ln>
        </p:spPr>
        <p:txBody>
          <a:bodyPr lIns="94680" rIns="94680" tIns="47520" bIns="4752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rvices modeled as separate components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AE55-ABA4-4280-ABFD-CB51010CF8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B37ED-123B-48F0-95D6-8647FC570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4EEEC-E9CB-4E47-985E-0CB0AF8E77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96726-EB21-4E86-A49A-CAB01718B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0F49B-E528-4B65-A0D7-2ED6043A50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3468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213960" y="11764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540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3468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213960" y="3698280"/>
            <a:ext cx="274176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01276-4B92-4288-99E9-9BC9B418F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D9E4D-F951-4CB4-B413-22E4787C24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C5DFE-DD92-4CF2-A590-374016EF76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5760" y="272520"/>
            <a:ext cx="823752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45E7-84A4-487E-B2A3-DF4C16263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995DF-BD7A-4756-A6E8-8E6695BA9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18600" y="36982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36C50-80CE-4567-B6F4-57CC327A3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18600" y="1176480"/>
            <a:ext cx="415512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5400" y="3698280"/>
            <a:ext cx="8515080" cy="2302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DC5D-8959-455C-AEBC-99C485C4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240" y="6029280"/>
            <a:ext cx="9140760" cy="828720"/>
          </a:xfrm>
          <a:prstGeom prst="rect">
            <a:avLst/>
          </a:prstGeom>
          <a:solidFill>
            <a:srgbClr val="0860a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134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1349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4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5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6" marL="1136520" indent="-409320">
              <a:spcBef>
                <a:spcPts val="1349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915480" y="6357600"/>
            <a:ext cx="7527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728720" y="6357600"/>
            <a:ext cx="388944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TinyOS 2.0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458640" y="6357600"/>
            <a:ext cx="41616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8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45FB80-F425-4CF7-9C91-BC5F9C5B4141}" type="slidenum">
              <a:rPr b="1" lang="en-US" sz="8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/>
          <a:stretch/>
        </p:blipFill>
        <p:spPr>
          <a:xfrm>
            <a:off x="7889760" y="6168960"/>
            <a:ext cx="811440" cy="54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rcRect l="13802" t="18050" r="13550" b="18382"/>
          <a:stretch/>
        </p:blipFill>
        <p:spPr>
          <a:xfrm>
            <a:off x="7396200" y="538200"/>
            <a:ext cx="1298520" cy="86040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20640" y="3651120"/>
            <a:ext cx="62658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Click to edit the title text format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860a8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860a8"/>
              </a:solidFill>
              <a:latin typeface="Verdana"/>
            </a:endParaRPr>
          </a:p>
          <a:p>
            <a:pPr lvl="1" marL="1440" indent="0"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cond Outline Lev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24768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rd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573120" algn="ctr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ur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4" marL="727200" algn="ctr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f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5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x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6" marL="7272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venth Outline Leve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<Relationship Id="rId2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hyperlink" Target="http://www.tinyos.net/dist-2.0.0" TargetMode="External"/><Relationship Id="rId2" Type="http://schemas.openxmlformats.org/officeDocument/2006/relationships/slideLayout" Target="../slideLayouts/slideLayout3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subTitle"/>
          </p:nvPr>
        </p:nvSpPr>
        <p:spPr>
          <a:xfrm>
            <a:off x="-360" y="2625840"/>
            <a:ext cx="8721720" cy="350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David Gay, Intel Research Berkeley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  <a:p>
            <a:pPr algn="r"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with Phil Levis, Vlado Handziski, Jonathan Hui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an-Hinrich Hauer, Ben Greenstein, Martin Turon, Kevin Klues, Cory Sharp, Robert Szewczyk, 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Joe Polastre, David Moss, Henri Dubois-Ferri</a:t>
            </a: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ère, </a:t>
            </a:r>
            <a:br>
              <a:rPr sz="2600"/>
            </a:br>
            <a:r>
              <a:rPr b="0" lang="en-US" sz="2600" spc="-1" strike="noStrike">
                <a:solidFill>
                  <a:srgbClr val="0860a8"/>
                </a:solidFill>
                <a:latin typeface="Verdana"/>
              </a:rPr>
              <a:t>Gilman Tolle,</a:t>
            </a: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Philip Buonadonna, Lama Nachman,</a:t>
            </a:r>
            <a:br>
              <a:rPr sz="2600"/>
            </a:br>
            <a:r>
              <a:rPr b="0" lang="en-GB" sz="2600" spc="-1" strike="noStrike">
                <a:solidFill>
                  <a:srgbClr val="0860a8"/>
                </a:solidFill>
                <a:latin typeface="Verdana"/>
              </a:rPr>
              <a:t> Adam Wolisz and David Culler  </a:t>
            </a:r>
            <a:endParaRPr b="0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title"/>
          </p:nvPr>
        </p:nvSpPr>
        <p:spPr>
          <a:xfrm>
            <a:off x="1285560" y="1519200"/>
            <a:ext cx="748188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860a8"/>
                </a:solidFill>
                <a:latin typeface="Verdana"/>
              </a:rPr>
              <a:t>TinyOS 2.0: A wireless sensor network operating system</a:t>
            </a:r>
            <a:endParaRPr b="1" lang="en-US" sz="3000" spc="-1" strike="noStrike">
              <a:solidFill>
                <a:srgbClr val="0860a8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write an anti-theft device. Let’s start simple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wo par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tec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thieves put the motes in their pocke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o, a “dark” mote is a stolen mote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detection algorithm: every N ms check if light sensor is below some threshol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porting thef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ssume: bright flashing lights deter thie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ft reporting algorithm: light the </a:t>
            </a:r>
            <a:r>
              <a:rPr b="1" lang="en-US" sz="1600" spc="-1" strike="noStrike">
                <a:solidFill>
                  <a:srgbClr val="ff0000"/>
                </a:solidFill>
                <a:latin typeface="Verdana"/>
              </a:rPr>
              <a:t>red LED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for a little while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components, interfaces, wir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ssential system interfaces for startup, timing, sensor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3FEB2-B0D3-4DBD-9C04-F821A4B8FEE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Let’s Get Start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d5ebfd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5" name=""/>
          <p:cNvSpPr/>
          <p:nvPr/>
        </p:nvSpPr>
        <p:spPr>
          <a:xfrm>
            <a:off x="4057560" y="3948120"/>
            <a:ext cx="491040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rograms are built out of named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mponent provides and uses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contain commands and events,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ich are just function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module is a component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16" name=""/>
          <p:cNvGrpSpPr/>
          <p:nvPr/>
        </p:nvGrpSpPr>
        <p:grpSpPr>
          <a:xfrm>
            <a:off x="2930400" y="814320"/>
            <a:ext cx="5624640" cy="1252440"/>
            <a:chOff x="2930400" y="814320"/>
            <a:chExt cx="5624640" cy="1252440"/>
          </a:xfrm>
        </p:grpSpPr>
        <p:sp>
          <p:nvSpPr>
            <p:cNvPr id="117" name=""/>
            <p:cNvSpPr/>
            <p:nvPr/>
          </p:nvSpPr>
          <p:spPr>
            <a:xfrm>
              <a:off x="4495680" y="814320"/>
              <a:ext cx="4059360" cy="125244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interface Boot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/* Signaled when OS booted */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event void boot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18" name=""/>
            <p:cNvSpPr/>
            <p:nvPr/>
          </p:nvSpPr>
          <p:spPr>
            <a:xfrm flipV="1">
              <a:off x="2930400" y="1265040"/>
              <a:ext cx="1554120" cy="174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2370240" y="1790640"/>
            <a:ext cx="5987880" cy="2030400"/>
            <a:chOff x="2370240" y="1790640"/>
            <a:chExt cx="5987880" cy="2030400"/>
          </a:xfrm>
        </p:grpSpPr>
        <p:sp>
          <p:nvSpPr>
            <p:cNvPr id="120" name=""/>
            <p:cNvSpPr/>
            <p:nvPr/>
          </p:nvSpPr>
          <p:spPr>
            <a:xfrm>
              <a:off x="2370240" y="2279520"/>
              <a:ext cx="5987880" cy="1541520"/>
            </a:xfrm>
            <a:prstGeom prst="rect">
              <a:avLst/>
            </a:prstGeom>
            <a:solidFill>
              <a:srgbClr val="f5e647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interface Timer&lt;tag&gt; {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OneShot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command void startPeriodic(uint32_t period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  </a:t>
              </a: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event void fired();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}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244680" y="1790640"/>
              <a:ext cx="262080" cy="4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46B4A-5B72-453F-B30F-64C7549FEA98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1" dur="indefinite" restart="never" nodeType="tmRoot">
          <p:childTnLst>
            <p:seq>
              <p:cTn id="142" dur="indefinite" nodeType="mainSeq">
                <p:childTnLst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0" dur="2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6" dur="20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58" dur="20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60" dur="20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16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16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6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17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14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8" dur="20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0" dur="20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2" dur="2000" fill="hold"/>
                                        <p:tgtEl>
                                          <p:spTgt spid="11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4" dur="2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6" dur="2000" fill="hold"/>
                                        <p:tgtEl>
                                          <p:spTgt spid="11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98" dur="2000" fill="hold"/>
                                        <p:tgtEl>
                                          <p:spTgt spid="11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9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0" dur="2000" fill="hold"/>
                                        <p:tgtEl>
                                          <p:spTgt spid="11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2" dur="2000" fill="hold"/>
                                        <p:tgtEl>
                                          <p:spTgt spid="11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4" dur="2000" fill="hold"/>
                                        <p:tgtEl>
                                          <p:spTgt spid="11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6" dur="2000" fill="hold"/>
                                        <p:tgtEl>
                                          <p:spTgt spid="11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08" dur="2000" fill="hold"/>
                                        <p:tgtEl>
                                          <p:spTgt spid="11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10" dur="2000" fill="hold"/>
                                        <p:tgtEl>
                                          <p:spTgt spid="114">
                                            <p:txEl>
                                              <p:pRg st="16" end="1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567eb9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4" name=""/>
          <p:cNvSpPr/>
          <p:nvPr/>
        </p:nvSpPr>
        <p:spPr>
          <a:xfrm>
            <a:off x="4614840" y="3048120"/>
            <a:ext cx="4059360" cy="1252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Boo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/* Signaled when OS booted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5" name=""/>
          <p:cNvSpPr/>
          <p:nvPr/>
        </p:nvSpPr>
        <p:spPr>
          <a:xfrm>
            <a:off x="4233960" y="725400"/>
            <a:ext cx="4910040" cy="160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nterfaces specify the interaction between 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wo components,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provid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and th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user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nteraction is just a function call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mands are calls from user to provi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are calls from provider to us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6" name=""/>
          <p:cNvSpPr/>
          <p:nvPr/>
        </p:nvSpPr>
        <p:spPr>
          <a:xfrm>
            <a:off x="2774880" y="4827600"/>
            <a:ext cx="5988240" cy="1541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Timer&lt;tag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OneShot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 startPeriodic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fir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8880-86F7-42EA-8705-616F4464798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4" dur="2000" fill="hold"/>
                                        <p:tgtEl>
                                          <p:spTgt spid="12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38" dur="2000" fill="hold"/>
                                        <p:tgtEl>
                                          <p:spTgt spid="123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3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0" dur="2000" fill="hold"/>
                                        <p:tgtEl>
                                          <p:spTgt spid="123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46" dur="2000" fill="hold"/>
                                        <p:tgtEl>
                                          <p:spTgt spid="12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5c47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47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23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0" dur="1" fill="hold"/>
                                  <p:tgtEl>
                                    <p:spTgt spid="123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1" dur="1" fill="hold"/>
                                  <p:tgtEl>
                                    <p:spTgt spid="123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52" dur="1" fill="hold"/>
                                  <p:tgtEl>
                                    <p:spTgt spid="123">
                                      <p:txEl>
                                        <p:pRg st="7" end="7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void Read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29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0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B252-E6B9-412E-96BD-267B76F156D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Interfaces and Split-Phase Op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Timer&lt;TMilli&gt; as Check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Check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.readDone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rror_t ok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, uint16_t val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k == SUCCES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&amp;&amp; val &lt; 200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3559320" y="235440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ll long-running operations are split-pha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 command starts the op: r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n event signals op completion: readDon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rrors are signalled using the error_t type, typicall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ands only allow one outstanding reques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s report any problems occurring in the o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3394080" y="506268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erface Read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 error_t rea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Done(error_t ok, val_t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6408-BD8D-4D4A-B934-9AE95812EC53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Configuration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17600" y="976320"/>
            <a:ext cx="851544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tiTheftC, MainC,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Boot -&gt; MainC.B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Leds -&gt; Leds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new TimerMilliC() as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Check -&gt; MyTim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 new PhotoC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ead -&gt; Photo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384720" y="4719600"/>
            <a:ext cx="5584680" cy="16430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 configuration is a component built out of other component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wires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“used” to “provided” interfac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nstantiate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generic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t can itself provide and use interfa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8" name=""/>
          <p:cNvSpPr/>
          <p:nvPr/>
        </p:nvSpPr>
        <p:spPr>
          <a:xfrm>
            <a:off x="2643120" y="1846440"/>
            <a:ext cx="5524560" cy="12934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TimerMilli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Timer&lt;TMilli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39" name=""/>
          <p:cNvSpPr/>
          <p:nvPr/>
        </p:nvSpPr>
        <p:spPr>
          <a:xfrm>
            <a:off x="2135160" y="2730600"/>
            <a:ext cx="5524560" cy="12938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Photo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6241-A51A-49B8-915F-02EDF87385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0" dur="2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2" dur="2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68" dur="2000" fill="hold"/>
                                        <p:tgtEl>
                                          <p:spTgt spid="13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6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70" dur="2000" fill="hold"/>
                                        <p:tgtEl>
                                          <p:spTgt spid="13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71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3" end="3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0" dur="2000" fill="hold"/>
                                        <p:tgtEl>
                                          <p:spTgt spid="13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8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82" dur="2000" fill="hold"/>
                                        <p:tgtEl>
                                          <p:spTgt spid="136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8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9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0" dur="2000" fill="hold"/>
                                        <p:tgtEl>
                                          <p:spTgt spid="13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292" dur="2000" fill="hold"/>
                                        <p:tgtEl>
                                          <p:spTgt spid="13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293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8" end="8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29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9" end="9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animClr clrSpc="rgb">
                                <p:cBhvr>
                                  <p:cTn id="299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1" end="1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  <p:animClr clrSpc="rgb">
                                <p:cBhvr>
                                  <p:cTn id="30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36">
                                      <p:txEl>
                                        <p:pRg st="12" end="1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322200" y="819000"/>
            <a:ext cx="6703920" cy="2830680"/>
          </a:xfrm>
          <a:prstGeom prst="rect">
            <a:avLst/>
          </a:prstGeom>
          <a:ln w="0">
            <a:noFill/>
          </a:ln>
        </p:spPr>
      </p:pic>
      <p:grpSp>
        <p:nvGrpSpPr>
          <p:cNvPr id="142" name=""/>
          <p:cNvGrpSpPr/>
          <p:nvPr/>
        </p:nvGrpSpPr>
        <p:grpSpPr>
          <a:xfrm>
            <a:off x="9414000" y="235080"/>
            <a:ext cx="4881600" cy="4965480"/>
            <a:chOff x="9414000" y="235080"/>
            <a:chExt cx="4881600" cy="4965480"/>
          </a:xfrm>
        </p:grpSpPr>
        <p:pic>
          <p:nvPicPr>
            <p:cNvPr id="143" name="" descr=""/>
            <p:cNvPicPr/>
            <p:nvPr/>
          </p:nvPicPr>
          <p:blipFill>
            <a:blip r:embed="rId2"/>
            <a:stretch/>
          </p:blipFill>
          <p:spPr>
            <a:xfrm>
              <a:off x="9414000" y="779400"/>
              <a:ext cx="4881600" cy="4421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4" name=""/>
            <p:cNvSpPr/>
            <p:nvPr/>
          </p:nvSpPr>
          <p:spPr>
            <a:xfrm>
              <a:off x="11435400" y="235080"/>
              <a:ext cx="1087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Main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9489960" y="5600880"/>
            <a:ext cx="3794400" cy="4770360"/>
            <a:chOff x="9489960" y="5600880"/>
            <a:chExt cx="3794400" cy="4770360"/>
          </a:xfrm>
        </p:grpSpPr>
        <p:pic>
          <p:nvPicPr>
            <p:cNvPr id="146" name="" descr=""/>
            <p:cNvPicPr/>
            <p:nvPr/>
          </p:nvPicPr>
          <p:blipFill>
            <a:blip r:embed="rId3"/>
            <a:stretch/>
          </p:blipFill>
          <p:spPr>
            <a:xfrm>
              <a:off x="9489960" y="6089760"/>
              <a:ext cx="3794400" cy="4281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7" name=""/>
            <p:cNvSpPr/>
            <p:nvPr/>
          </p:nvSpPr>
          <p:spPr>
            <a:xfrm>
              <a:off x="10212480" y="5600880"/>
              <a:ext cx="239508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Verdana"/>
                </a:rPr>
                <a:t>TinySchedulerC</a:t>
              </a: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09C2C-BEED-4E91-9CF1-8656FDA10B0E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4.16667E-006 1.84971E-006 L -0.61388 -0.00439 E">
                                      <p:cBhvr>
                                        <p:cTn id="306" dur="2000" fill="hold"/>
                                        <p:tgtEl>
                                          <p:spTgt spid="1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27778E-006 -4.79769E-006 L -1.03767 -0.60694 E">
                                      <p:cBhvr>
                                        <p:cTn id="310" dur="2000" fill="hold"/>
                                        <p:tgtEl>
                                          <p:spTgt spid="1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et’s improve our anti-theft device. A clever thief could still steal our motes by keeping a light shining on them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t, however clever, the thief still needs to pick up a mote to steal i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ft Detection Algorithm 2: Every N ms, sample acceleration at 100Hz and check if variance above some threshol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Relatively) high frequency sampling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of tasks to defer computation-intensive activ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DE6F-5FEF-4092-8404-EDC8CDC1148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ReadStream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ACCEL_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postBuff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accelSamples, ACCEL_SAMPLE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10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ReadStream.readDone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 void checkAcceleration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 check acceleration and report theft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3559320" y="265284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Stream is an interface for periodic sampling of a sensor into one or more buffer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postBuffer adds one or more buffers for sampling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 starts the sampling oper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readDone is signalled when the last buffer is ful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" y="4813200"/>
            <a:ext cx="6919920" cy="16383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adStream&lt;val_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postBuffer(val_t* buf, uint16_t coun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read(uint32_t 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readDone(error_t ok, uint32_t actualPeriod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EE72-BCCD-49E0-8E91-81A53BBCE91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33295 E">
                                      <p:cBhvr>
                                        <p:cTn id="316" dur="2000" fill="hold"/>
                                        <p:tgtEl>
                                          <p:spTgt spid="15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– Advanced Sensing, Tas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5400" y="98892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eadStream.readDone(error_t ok, uint32_t actualPerio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st checkAcceleration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 void checkAcceleration(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16_t i, avg, va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avg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+= accelSamples[i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vg /= SAMPLE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r (var = 0, i = 0; i &lt; SAMPLES; i++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t16_t diff = accelSamples[i] - av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ar += diff * diff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     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var &gt; 4 * SAMPLES) 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6" name=""/>
          <p:cNvSpPr/>
          <p:nvPr/>
        </p:nvSpPr>
        <p:spPr>
          <a:xfrm>
            <a:off x="3559320" y="3971880"/>
            <a:ext cx="5584680" cy="191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 readDone, we need to compute the variance of the sample. We defer this “computationally-intensive” operation to a separate </a:t>
            </a:r>
            <a:r>
              <a:rPr b="0" i="1" lang="en-GB" sz="1600" spc="-1" strike="noStrike">
                <a:solidFill>
                  <a:srgbClr val="0860a8"/>
                </a:solidFill>
                <a:latin typeface="Verdana"/>
              </a:rPr>
              <a:t>task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using pos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We then compute the variance and report theft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39F91-0318-4706-B277-A1B66AF8B94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7" dur="indefinite" restart="never" nodeType="tmRoot">
          <p:childTnLst>
            <p:seq>
              <p:cTn id="318" dur="indefinite" nodeType="mainSeq">
                <p:childTnLst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7 -1.7341E-007 L -0.00156 -0.54474 E">
                                      <p:cBhvr>
                                        <p:cTn id="322" dur="2000" fill="hold"/>
                                        <p:tgtEl>
                                          <p:spTgt spid="15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23EE-4460-4849-B2D1-D5F9E3C6F907}" type="slidenum">
              <a:t>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8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0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2592360" y="1170000"/>
            <a:ext cx="1604880" cy="90360"/>
          </a:xfrm>
          <a:prstGeom prst="line">
            <a:avLst/>
          </a:prstGeom>
          <a:ln w="50760">
            <a:solidFill>
              <a:srgbClr val="0860a8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4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69" name=""/>
          <p:cNvSpPr/>
          <p:nvPr/>
        </p:nvSpPr>
        <p:spPr>
          <a:xfrm>
            <a:off x="3718080" y="3595680"/>
            <a:ext cx="0" cy="720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3882600" y="1484280"/>
            <a:ext cx="854280" cy="14986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1" name=""/>
          <p:cNvSpPr/>
          <p:nvPr/>
        </p:nvSpPr>
        <p:spPr>
          <a:xfrm>
            <a:off x="7050240" y="246708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2" name=""/>
          <p:cNvSpPr/>
          <p:nvPr/>
        </p:nvSpPr>
        <p:spPr>
          <a:xfrm>
            <a:off x="7059600" y="287352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7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DAB7-A898-4F59-AAFE-6BCF4FDA3E9F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46" dur="2000" fill="hold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1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2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3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4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6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7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88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3267000" y="2089080"/>
            <a:ext cx="5473440" cy="2228400"/>
            <a:chOff x="3267000" y="2089080"/>
            <a:chExt cx="5473440" cy="2228400"/>
          </a:xfrm>
        </p:grpSpPr>
        <p:sp>
          <p:nvSpPr>
            <p:cNvPr id="190" name=""/>
            <p:cNvSpPr/>
            <p:nvPr/>
          </p:nvSpPr>
          <p:spPr>
            <a:xfrm>
              <a:off x="7046640" y="2089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1" name=""/>
            <p:cNvSpPr/>
            <p:nvPr/>
          </p:nvSpPr>
          <p:spPr>
            <a:xfrm flipV="1">
              <a:off x="3267000" y="3566880"/>
              <a:ext cx="0" cy="75060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1768320" y="2467080"/>
            <a:ext cx="6975720" cy="771480"/>
            <a:chOff x="1768320" y="2467080"/>
            <a:chExt cx="6975720" cy="771480"/>
          </a:xfrm>
        </p:grpSpPr>
        <p:sp>
          <p:nvSpPr>
            <p:cNvPr id="193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SchedulerP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19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9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5e647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03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462480" y="1693800"/>
            <a:ext cx="5290920" cy="3627360"/>
            <a:chOff x="3462480" y="1693800"/>
            <a:chExt cx="5290920" cy="3627360"/>
          </a:xfrm>
        </p:grpSpPr>
        <p:sp>
          <p:nvSpPr>
            <p:cNvPr id="206" name=""/>
            <p:cNvSpPr/>
            <p:nvPr/>
          </p:nvSpPr>
          <p:spPr>
            <a:xfrm>
              <a:off x="7059600" y="169380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Alarm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07" name=""/>
            <p:cNvSpPr/>
            <p:nvPr/>
          </p:nvSpPr>
          <p:spPr>
            <a:xfrm flipV="1">
              <a:off x="3462480" y="4856040"/>
              <a:ext cx="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F933A-E7B1-4F5D-9AC8-6712C73E419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0" dur="2000" fill="hold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TinyOS Execution Mode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09" name=""/>
          <p:cNvSpPr/>
          <p:nvPr/>
        </p:nvSpPr>
        <p:spPr>
          <a:xfrm>
            <a:off x="763920" y="101772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RealMain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0" name=""/>
          <p:cNvSpPr/>
          <p:nvPr/>
        </p:nvSpPr>
        <p:spPr>
          <a:xfrm>
            <a:off x="5004000" y="469260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1" name=""/>
          <p:cNvSpPr/>
          <p:nvPr/>
        </p:nvSpPr>
        <p:spPr>
          <a:xfrm>
            <a:off x="4312080" y="9288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2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3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4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5" name=""/>
          <p:cNvSpPr/>
          <p:nvPr/>
        </p:nvSpPr>
        <p:spPr>
          <a:xfrm>
            <a:off x="2991960" y="3017880"/>
            <a:ext cx="1062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6" name=""/>
          <p:cNvSpPr/>
          <p:nvPr/>
        </p:nvSpPr>
        <p:spPr>
          <a:xfrm>
            <a:off x="2968920" y="4324320"/>
            <a:ext cx="1086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larm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17" name=""/>
          <p:cNvSpPr/>
          <p:nvPr/>
        </p:nvSpPr>
        <p:spPr>
          <a:xfrm>
            <a:off x="939240" y="2255760"/>
            <a:ext cx="1844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Scheduler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1768320" y="2085840"/>
            <a:ext cx="6972480" cy="1152720"/>
            <a:chOff x="1768320" y="2085840"/>
            <a:chExt cx="6972480" cy="1152720"/>
          </a:xfrm>
        </p:grpSpPr>
        <p:sp>
          <p:nvSpPr>
            <p:cNvPr id="219" name=""/>
            <p:cNvSpPr/>
            <p:nvPr/>
          </p:nvSpPr>
          <p:spPr>
            <a:xfrm>
              <a:off x="7047000" y="208584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768320" y="2773440"/>
              <a:ext cx="1154160" cy="465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1" name=""/>
          <p:cNvGrpSpPr/>
          <p:nvPr/>
        </p:nvGrpSpPr>
        <p:grpSpPr>
          <a:xfrm>
            <a:off x="3478320" y="1453680"/>
            <a:ext cx="5265720" cy="1528920"/>
            <a:chOff x="3478320" y="1453680"/>
            <a:chExt cx="5265720" cy="1528920"/>
          </a:xfrm>
        </p:grpSpPr>
        <p:sp>
          <p:nvSpPr>
            <p:cNvPr id="222" name=""/>
            <p:cNvSpPr/>
            <p:nvPr/>
          </p:nvSpPr>
          <p:spPr>
            <a:xfrm flipV="1">
              <a:off x="3478320" y="1453680"/>
              <a:ext cx="1049400" cy="15289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050240" y="246708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ntiTheft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5126040" y="1514520"/>
            <a:ext cx="3627360" cy="3163680"/>
            <a:chOff x="5126040" y="1514520"/>
            <a:chExt cx="3627360" cy="3163680"/>
          </a:xfrm>
        </p:grpSpPr>
        <p:sp>
          <p:nvSpPr>
            <p:cNvPr id="225" name=""/>
            <p:cNvSpPr/>
            <p:nvPr/>
          </p:nvSpPr>
          <p:spPr>
            <a:xfrm>
              <a:off x="5126040" y="1514520"/>
              <a:ext cx="898560" cy="316368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059600" y="2873520"/>
              <a:ext cx="1693800" cy="3902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860a8"/>
                  </a:solidFill>
                  <a:latin typeface="Verdana"/>
                </a:rPr>
                <a:t>AccelStreamC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227" name=""/>
          <p:cNvGrpSpPr/>
          <p:nvPr/>
        </p:nvGrpSpPr>
        <p:grpSpPr>
          <a:xfrm>
            <a:off x="3913200" y="3162240"/>
            <a:ext cx="4917960" cy="1233720"/>
            <a:chOff x="3913200" y="3162240"/>
            <a:chExt cx="4917960" cy="1233720"/>
          </a:xfrm>
        </p:grpSpPr>
        <p:sp>
          <p:nvSpPr>
            <p:cNvPr id="228" name=""/>
            <p:cNvSpPr/>
            <p:nvPr/>
          </p:nvSpPr>
          <p:spPr>
            <a:xfrm>
              <a:off x="7137360" y="4005360"/>
              <a:ext cx="1693800" cy="3906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860a8"/>
                  </a:solidFill>
                  <a:latin typeface="Verdana"/>
                </a:rPr>
                <a:t>timer task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913200" y="3162240"/>
              <a:ext cx="3448080" cy="1065240"/>
            </a:xfrm>
            <a:custGeom>
              <a:avLst/>
              <a:gdLst/>
              <a:ahLst/>
              <a:rect l="l" t="t" r="r" b="b"/>
              <a:pathLst>
                <a:path w="2172" h="671">
                  <a:moveTo>
                    <a:pt x="2172" y="662"/>
                  </a:moveTo>
                  <a:cubicBezTo>
                    <a:pt x="1999" y="671"/>
                    <a:pt x="1820" y="581"/>
                    <a:pt x="1628" y="505"/>
                  </a:cubicBezTo>
                  <a:cubicBezTo>
                    <a:pt x="1436" y="429"/>
                    <a:pt x="1290" y="292"/>
                    <a:pt x="1019" y="208"/>
                  </a:cubicBezTo>
                  <a:cubicBezTo>
                    <a:pt x="748" y="124"/>
                    <a:pt x="212" y="43"/>
                    <a:pt x="0" y="0"/>
                  </a:cubicBezTo>
                </a:path>
              </a:pathLst>
            </a:custGeom>
            <a:noFill/>
            <a:ln w="2844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23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0DEBA-6DBF-413D-B4E8-96A1564EE455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8" dur="2000" fill="hold"/>
                                        <p:tgtEl>
                                          <p:spTgt spid="23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he Basics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nd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grams built by writing and wir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s are components implemented in 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figurations are components written by assembling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interact via interfaces on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happens in a series of tasks (atomic with respect to each other) and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o threa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ystem services: startup, timing, sensing (so fa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ostly) represented by instantiatable generic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is instantiation happens at compile-time! (think C++ templates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l slow system requests are split-ph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4C532-F05C-423A-9499-ACD7D799838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contains two useful network protocol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, that disseminates a value to all nodes in the networ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e for reconfiguration, program dissemination, i.e., network control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llection, that allows all nodes to report values to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roo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simplest data collection mechanis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1027080"/>
                <a:tab algn="l" pos="4859280"/>
                <a:tab algn="l" pos="5556240"/>
                <a:tab algn="l" pos="6350040"/>
                <a:tab algn="l" pos="7143840"/>
                <a:tab algn="l" pos="7937640"/>
                <a:tab algn="l" pos="8731080"/>
                <a:tab algn="l" pos="9524880"/>
                <a:tab algn="l" pos="1031868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seminatio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Collec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1004760" y="3433680"/>
            <a:ext cx="2552760" cy="2514600"/>
          </a:xfrm>
          <a:prstGeom prst="rect">
            <a:avLst/>
          </a:prstGeom>
          <a:ln w="0">
            <a:noFill/>
          </a:ln>
        </p:spPr>
      </p:pic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4753080" y="3446640"/>
            <a:ext cx="2665440" cy="24876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DC876-7F15-4B0B-9F61-07E2A9C84824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fferent anti-theft mechanisms may be appropriate for different times or places. Our perfect anti-theft system must be configurable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 want to send some settings to all motes selecting between dark and acceleration detec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also allow selection of siren-based alerts instead of the “bright flashing light”, and of the theft check interva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use the dissemination protocol to achieve thi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use the dissemina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How to start (and stop)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ernal” types, and their use in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CE68C-8C4A-441F-B799-473EE6D8611C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“External” Typ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600" spc="-1" strike="noStrike">
                <a:solidFill>
                  <a:srgbClr val="ff0000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366840" y="2205000"/>
            <a:ext cx="4025880" cy="21337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ifndef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define ANTITHEFT_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8_t alert, detec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checkInterva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settings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#endif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48" name=""/>
          <p:cNvSpPr/>
          <p:nvPr/>
        </p:nvSpPr>
        <p:spPr>
          <a:xfrm>
            <a:off x="3348000" y="4062240"/>
            <a:ext cx="5585040" cy="16480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ternal types (nx_...) provide C-like access, but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latform-independent layout and endianness gives interoperabilit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no alignment restrictions means they can easily be used in network buff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iled to individual byte read/writ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FA04F-F4B4-4DDB-AB6F-365A910C48AB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25520" y="892080"/>
            <a:ext cx="851544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#include “antitheft.h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odule AntiTheftC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... uses interface </a:t>
            </a:r>
            <a:r>
              <a:rPr b="0" lang="en-GB" sz="1600" spc="-1" strike="noStrike">
                <a:solidFill>
                  <a:srgbClr val="ff0000"/>
                </a:solidFill>
                <a:latin typeface="Verdana"/>
              </a:rPr>
              <a:t>DisseminationValue&lt;settings_t&gt;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as SettingsValue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 implementation {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_t settings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SettingsValue.chang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nst settings_t *newSettings = call SettingsValue.get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detect = newSettings-&gt;detec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.alert = newSettings-&gt;alert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Check.startPeriod(newSettings-&gt;checkInterval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 void Timer.fired(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DARK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.read(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f (settings.detect &amp; DETECT_ACCEL) {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postBuffer(accelSamples, ACCEL_SAMPLES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ll ReadStream.read(10000);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1" name=""/>
          <p:cNvSpPr/>
          <p:nvPr/>
        </p:nvSpPr>
        <p:spPr>
          <a:xfrm>
            <a:off x="4219560" y="2251080"/>
            <a:ext cx="4654440" cy="1384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DisseminationValue&lt;t&gt;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const t* ge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chang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2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issemination is simple to use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changed event is signalled when new settings ar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get command is used to obtain the received valu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an then simply read the received setting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A6A8B-F9FB-4961-B4E3-D7D9ECAA13B9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9" dur="indefinite" restart="never" nodeType="tmRoot">
          <p:childTnLst>
            <p:seq>
              <p:cTn id="440" dur="indefinite" nodeType="mainSeq">
                <p:childTnLst>
                  <p:par>
                    <p:cTn id="441" fill="hold">
                      <p:stCondLst>
                        <p:cond delay="indefinite"/>
                      </p:stCondLst>
                      <p:childTnLst>
                        <p:par>
                          <p:cTn id="442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56 0.03931 L -0.00156 -0.29364 E">
                                      <p:cBhvr>
                                        <p:cTn id="446" dur="2000" fill="hold"/>
                                        <p:tgtEl>
                                          <p:spTgt spid="25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47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48" dur="2000" fill="hold"/>
                                        <p:tgtEl>
                                          <p:spTgt spid="2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4" dur="2000" fill="hold"/>
                                        <p:tgtEl>
                                          <p:spTgt spid="2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5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5" end="5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0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1" dur="2000" fill="hold"/>
                                        <p:tgtEl>
                                          <p:spTgt spid="2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64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5" dur="2000" fill="hold"/>
                                        <p:tgtEl>
                                          <p:spTgt spid="25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50">
                                      <p:txEl>
                                        <p:pRg st="6" end="6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Dissemin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ctiveMessageC,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DisseminatorC(settings_t, DIS_SETTINGS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ntiTheftC.SettingsValue -&gt; Disseminator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RadioControl -&gt; ActiveMessage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5" name=""/>
          <p:cNvSpPr/>
          <p:nvPr/>
        </p:nvSpPr>
        <p:spPr>
          <a:xfrm>
            <a:off x="3559320" y="4211640"/>
            <a:ext cx="5584680" cy="1468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inally, we need to wire in the new functionality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create a disseminator for the settings_t typ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ActiveMessageC to start to the radio (we’ll see why in a little bit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82FF3-123C-41D9-98B2-5CA100538AC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issemination – How does it work?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 local broadcasts and packet suppres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ale to a wide range of densi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rol transmissions ov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sp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100% eventual reli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isconnection, repopulation, etc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tinuous proc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intenance: exchange metadata (e.g., version numbers, hashes) at a low rate to ensure network is up to d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agation: when a node detects an inconsistency, the network quickly broadcasts the new data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[Slide Courtesy Phil Levis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615000" y="1228680"/>
            <a:ext cx="1928880" cy="19004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4DCD-6FC5-4807-88CC-E56B826D1DF4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ome Typical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5400" y="2453760"/>
            <a:ext cx="4181400" cy="354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ica2 (2002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8MHz ATmega128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4kB RAM, 12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0kb/s custom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many different sensor board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: 75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140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789080" y="2466720"/>
            <a:ext cx="4181400" cy="353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04920"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elosb (2004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MHz TI MSP430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10kB RAM, 48kB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512kB external flash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50kb/s 802.15.4 radio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uilt-in senso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06360" indent="-30492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2 AA batteries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radio+cpu mode: 63m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860a8"/>
                </a:solidFill>
                <a:latin typeface="Verdana"/>
              </a:rPr>
              <a:t>sleep mode: 30 </a:t>
            </a:r>
            <a:r>
              <a:rPr b="0" lang="el-GR" sz="1400" spc="-1" strike="noStrike">
                <a:solidFill>
                  <a:srgbClr val="0860a8"/>
                </a:solidFill>
                <a:latin typeface="Verdana"/>
              </a:rPr>
              <a:t>μ</a:t>
            </a: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W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11200" y="865080"/>
            <a:ext cx="2325600" cy="1528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788000" y="473040"/>
            <a:ext cx="2708280" cy="19861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1290600" y="5510160"/>
            <a:ext cx="6151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fetime: a few days to several years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B39C-F0A3-4A7F-B71E-50E1E232F2D5}" type="slidenum">
              <a:t>3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– Starting Ser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SplitControl as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Boot.boote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heck.startPeriodic(10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Radio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opDone(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487440" y="4151160"/>
            <a:ext cx="8656560" cy="187344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henever possible, TinyOS 2.0, starts and stops services automatically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is isn’t possible for the radio (no knowledge of when messages might arrive), so responsibility passed to the programmer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turn on radio for dissemination service to work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Control is one of the interfaces for starting and stopping servic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plit-phase, used when start/stop may take a whi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2" name=""/>
          <p:cNvSpPr/>
          <p:nvPr/>
        </p:nvSpPr>
        <p:spPr>
          <a:xfrm>
            <a:off x="4518000" y="1697040"/>
            <a:ext cx="4280040" cy="23144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plit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art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topDone(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ABD99-24D4-413B-A5C8-8DBC53737A4E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6" dur="2000" fill="hold"/>
                                        <p:tgtEl>
                                          <p:spTgt spid="2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7" fill="hold">
                      <p:stCondLst>
                        <p:cond delay="indefinite"/>
                      </p:stCondLst>
                      <p:childTnLst>
                        <p:par>
                          <p:cTn id="488" fill="hold">
                            <p:stCondLst>
                              <p:cond delay="0"/>
                            </p:stCondLst>
                            <p:childTnLst>
                              <p:par>
                                <p:cTn id="489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E-006 -2.54335E-006 L 5E-006 -0.18867 E">
                                      <p:cBhvr>
                                        <p:cTn id="490" dur="2000" fill="hold"/>
                                        <p:tgtEl>
                                          <p:spTgt spid="26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91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2" dur="2000" fill="hold"/>
                                        <p:tgtEl>
                                          <p:spTgt spid="2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493" nodeType="with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4" dur="2000" fill="hold"/>
                                        <p:tgtEl>
                                          <p:spTgt spid="26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  <p:animClr clrSpc="rgb">
                                <p:cBhvr>
                                  <p:cTn id="49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260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0860a8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if thieves aren’t deterred by sirens and flashing lights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need to report the theft!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’ll use the tree-based collection to send theft reports to a base station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llection protoco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, TinyOS’s message buffer typ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, TinyOS’s address-less send interfa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51D3-ABE7-4A67-9070-E9F47E331DE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59320" y="4211640"/>
            <a:ext cx="5584680" cy="164772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efore we can report anything, we need to: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radio (already done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tart the collection servi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68" name=""/>
          <p:cNvSpPr/>
          <p:nvPr/>
        </p:nvSpPr>
        <p:spPr>
          <a:xfrm>
            <a:off x="4564080" y="2655720"/>
            <a:ext cx="4280040" cy="133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top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FB12C-5A49-49DF-9F14-FA9A3DB5D1F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a6cae1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a6cae1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1" name=""/>
          <p:cNvSpPr/>
          <p:nvPr/>
        </p:nvSpPr>
        <p:spPr>
          <a:xfrm>
            <a:off x="3319560" y="4376880"/>
            <a:ext cx="5584680" cy="1137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 messages are s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By placing data in a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message_t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buff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buClr>
                <a:srgbClr val="0860a8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Using the Send interfac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2" name=""/>
          <p:cNvSpPr/>
          <p:nvPr/>
        </p:nvSpPr>
        <p:spPr>
          <a:xfrm>
            <a:off x="2452680" y="1486080"/>
            <a:ext cx="66913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88E57-B7EA-4AB6-A954-EEEBEB6E4F00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6" dur="indefinite" restart="never" nodeType="tmRoot">
          <p:childTnLst>
            <p:seq>
              <p:cTn id="497" dur="indefinite" nodeType="mainSeq">
                <p:childTnLst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173 -0.28601 L -0.00173 -0.61896 E">
                                      <p:cBhvr>
                                        <p:cTn id="503" dur="2000" fill="hold"/>
                                        <p:tgtEl>
                                          <p:spTgt spid="271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79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0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2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5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6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8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89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0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1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 rot="16200000">
            <a:off x="3340800" y="4596120"/>
            <a:ext cx="237960" cy="2643120"/>
          </a:xfrm>
          <a:custGeom>
            <a:avLst/>
            <a:gdLst>
              <a:gd name="textAreaLeft" fmla="*/ 151920 w 237960"/>
              <a:gd name="textAreaRight" fmla="*/ 238320 w 237960"/>
              <a:gd name="textAreaTop" fmla="*/ 68760 h 2643120"/>
              <a:gd name="textAreaBottom" fmla="*/ 2574360 h 2643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4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6" name=""/>
          <p:cNvSpPr/>
          <p:nvPr/>
        </p:nvSpPr>
        <p:spPr>
          <a:xfrm>
            <a:off x="3030840" y="61419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8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299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684AF-B5A7-4218-A65B-678F626BD585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3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5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8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1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4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7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0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1" fill="hold">
                      <p:stCondLst>
                        <p:cond delay="indefinite"/>
                      </p:stCondLst>
                      <p:childTnLst>
                        <p:par>
                          <p:cTn id="582" fill="hold">
                            <p:stCondLst>
                              <p:cond delay="0"/>
                            </p:stCondLst>
                            <p:childTnLst>
                              <p:par>
                                <p:cTn id="5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: packet abstract data type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250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is a platform-defined type for holding packe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fixed size byte arra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pable of holding MTU of all data-link layers (platform-selected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ed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only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via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general payload access, provided at each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acket: information for lay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xx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674640" y="4646520"/>
            <a:ext cx="7778880" cy="555840"/>
          </a:xfrm>
          <a:prstGeom prst="rect">
            <a:avLst/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3" name=""/>
          <p:cNvSpPr/>
          <p:nvPr/>
        </p:nvSpPr>
        <p:spPr>
          <a:xfrm>
            <a:off x="2160720" y="4662360"/>
            <a:ext cx="0" cy="5540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4" name=""/>
          <p:cNvSpPr/>
          <p:nvPr/>
        </p:nvSpPr>
        <p:spPr>
          <a:xfrm>
            <a:off x="900000" y="4646520"/>
            <a:ext cx="0" cy="5558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222720" y="464652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>
            <a:off x="476892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7" name=""/>
          <p:cNvSpPr/>
          <p:nvPr/>
        </p:nvSpPr>
        <p:spPr>
          <a:xfrm>
            <a:off x="6238800" y="4664160"/>
            <a:ext cx="0" cy="53964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8" name=""/>
          <p:cNvSpPr/>
          <p:nvPr/>
        </p:nvSpPr>
        <p:spPr>
          <a:xfrm>
            <a:off x="3334320" y="4654440"/>
            <a:ext cx="1232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pplica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>
            <a:off x="1076040" y="4654440"/>
            <a:ext cx="8575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0" name=""/>
          <p:cNvSpPr/>
          <p:nvPr/>
        </p:nvSpPr>
        <p:spPr>
          <a:xfrm>
            <a:off x="2148480" y="462924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llection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1" name=""/>
          <p:cNvSpPr/>
          <p:nvPr/>
        </p:nvSpPr>
        <p:spPr>
          <a:xfrm>
            <a:off x="5047560" y="4616280"/>
            <a:ext cx="839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foot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2" name=""/>
          <p:cNvSpPr/>
          <p:nvPr/>
        </p:nvSpPr>
        <p:spPr>
          <a:xfrm>
            <a:off x="7232760" y="4665600"/>
            <a:ext cx="109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eta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3" name=""/>
          <p:cNvSpPr/>
          <p:nvPr/>
        </p:nvSpPr>
        <p:spPr>
          <a:xfrm>
            <a:off x="7165800" y="4681440"/>
            <a:ext cx="0" cy="540000"/>
          </a:xfrm>
          <a:prstGeom prst="line">
            <a:avLst/>
          </a:prstGeom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2160720" y="4257720"/>
            <a:ext cx="0" cy="374760"/>
          </a:xfrm>
          <a:prstGeom prst="line">
            <a:avLst/>
          </a:prstGeom>
          <a:ln cap="rnd" w="50760">
            <a:solidFill>
              <a:srgbClr val="0860a8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5" name=""/>
          <p:cNvSpPr/>
          <p:nvPr/>
        </p:nvSpPr>
        <p:spPr>
          <a:xfrm>
            <a:off x="6265800" y="4662360"/>
            <a:ext cx="870120" cy="52416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6" name=""/>
          <p:cNvSpPr/>
          <p:nvPr/>
        </p:nvSpPr>
        <p:spPr>
          <a:xfrm>
            <a:off x="658800" y="4646520"/>
            <a:ext cx="239760" cy="525600"/>
          </a:xfrm>
          <a:prstGeom prst="rect">
            <a:avLst/>
          </a:prstGeom>
          <a:solidFill>
            <a:srgbClr val="0860a8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 rot="16200000">
            <a:off x="3905280" y="5148360"/>
            <a:ext cx="225360" cy="1527120"/>
          </a:xfrm>
          <a:custGeom>
            <a:avLst/>
            <a:gdLst>
              <a:gd name="textAreaLeft" fmla="*/ 144000 w 225360"/>
              <a:gd name="textAreaRight" fmla="*/ 225720 w 225360"/>
              <a:gd name="textAreaTop" fmla="*/ 39600 h 1527120"/>
              <a:gd name="textAreaBottom" fmla="*/ 1487520 h 1527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f5e6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8" name=""/>
          <p:cNvSpPr/>
          <p:nvPr/>
        </p:nvSpPr>
        <p:spPr>
          <a:xfrm rot="16200000">
            <a:off x="2619360" y="4868280"/>
            <a:ext cx="150840" cy="1001880"/>
          </a:xfrm>
          <a:custGeom>
            <a:avLst/>
            <a:gdLst>
              <a:gd name="textAreaLeft" fmla="*/ 96480 w 150840"/>
              <a:gd name="textAreaRight" fmla="*/ 151200 w 150840"/>
              <a:gd name="textAreaTop" fmla="*/ 25920 h 1001880"/>
              <a:gd name="textAreaBottom" fmla="*/ 975960 h 1001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6481080" y="3540960"/>
            <a:ext cx="225360" cy="3611520"/>
          </a:xfrm>
          <a:custGeom>
            <a:avLst/>
            <a:gdLst>
              <a:gd name="textAreaLeft" fmla="*/ 144000 w 225360"/>
              <a:gd name="textAreaRight" fmla="*/ 225720 w 225360"/>
              <a:gd name="textAreaTop" fmla="*/ 93960 h 3611520"/>
              <a:gd name="textAreaBottom" fmla="*/ 3517560 h 3611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0" name=""/>
          <p:cNvSpPr/>
          <p:nvPr/>
        </p:nvSpPr>
        <p:spPr>
          <a:xfrm>
            <a:off x="2133720" y="5478480"/>
            <a:ext cx="1747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llection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1" name=""/>
          <p:cNvSpPr/>
          <p:nvPr/>
        </p:nvSpPr>
        <p:spPr>
          <a:xfrm>
            <a:off x="3645360" y="6116760"/>
            <a:ext cx="810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5e647"/>
                </a:solidFill>
                <a:latin typeface="Verdana"/>
              </a:rPr>
              <a:t>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5927040" y="5478480"/>
            <a:ext cx="152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C1000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1474920" y="4751280"/>
            <a:ext cx="150480" cy="1214640"/>
          </a:xfrm>
          <a:custGeom>
            <a:avLst/>
            <a:gdLst>
              <a:gd name="textAreaLeft" fmla="*/ 96120 w 150480"/>
              <a:gd name="textAreaRight" fmla="*/ 150840 w 150480"/>
              <a:gd name="textAreaTop" fmla="*/ 31680 h 1214640"/>
              <a:gd name="textAreaBottom" fmla="*/ 11829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4" name=""/>
          <p:cNvSpPr/>
          <p:nvPr/>
        </p:nvSpPr>
        <p:spPr>
          <a:xfrm>
            <a:off x="902520" y="5432400"/>
            <a:ext cx="1123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AMPacke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28560" y="3749760"/>
            <a:ext cx="151632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ink-layer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header 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6" name=""/>
          <p:cNvSpPr/>
          <p:nvPr/>
        </p:nvSpPr>
        <p:spPr>
          <a:xfrm>
            <a:off x="2174760" y="3749760"/>
            <a:ext cx="6237360" cy="52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ata, footer, metadata</a:t>
            </a:r>
            <a:br>
              <a:rPr sz="1600"/>
            </a:b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re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08726-F556-4789-BC34-FB56AA9DCC60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dvanced” Networking - Coll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455400" y="876240"/>
            <a:ext cx="8515080" cy="512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as AlertRoo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tdControl as Collection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_t aler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 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LE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OO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lert_t *newAlert = call AlertRoot.getPayload(&amp;alert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Alert-&gt;stolenId = TOS_NODE_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AlertRoot.send(&amp;alertMsg, sizeof *newAlert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AlertRoot.sendDone(message_t *msg, error_t ok)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29" name=""/>
          <p:cNvSpPr/>
          <p:nvPr/>
        </p:nvSpPr>
        <p:spPr>
          <a:xfrm>
            <a:off x="3363840" y="239760"/>
            <a:ext cx="5585040" cy="1276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getPayload to get access to the portion of message_t available to the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use an external type to actually write the data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0" name=""/>
          <p:cNvSpPr/>
          <p:nvPr/>
        </p:nvSpPr>
        <p:spPr>
          <a:xfrm>
            <a:off x="2452680" y="1784520"/>
            <a:ext cx="66913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309600" y="905040"/>
            <a:ext cx="2854440" cy="10555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edef nx_struct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x_uint16_t stolenI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 alert_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E58F5-8644-4526-B9AF-A1DB53F56B35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police may not get there in time to catch the mote thief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, let’s alert the mote’s neighbour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send a local broadcast message over the radio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’ll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ctive message-based single-hop messag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5BE37-5ACD-4989-BCE3-B28F746D9E72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-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dress-free interfaces for sending, 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: send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: receive a pack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” interfa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destination addres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tive messages has “message type”, used for dispatch on rece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MSend: send a packet to an active message add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is reused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essage type not specified in interfaces, but in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53757-B8D5-45A5-BF94-6DB8726B248D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9" dur="indefinite" restart="never" nodeType="tmRoot">
          <p:childTnLst>
            <p:seq>
              <p:cTn id="590" dur="indefinite" nodeType="mainSeq">
                <p:childTnLst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8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39" name=""/>
          <p:cNvSpPr/>
          <p:nvPr/>
        </p:nvSpPr>
        <p:spPr>
          <a:xfrm>
            <a:off x="295200" y="243000"/>
            <a:ext cx="8655120" cy="21193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AMSend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error_t send(am_addr_t addr, message_t* msg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sendDone(message_t* msg, error_t ok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max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C25EE-E288-418C-83D6-DDDFBE10482E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5" dur="indefinite" restart="never" nodeType="tmRoot">
          <p:childTnLst>
            <p:seq>
              <p:cTn id="606" dur="indefinite" nodeType="mainSeq">
                <p:childTnLst>
                  <p:par>
                    <p:cTn id="607" fill="hold">
                      <p:stCondLst>
                        <p:cond delay="indefinite"/>
                      </p:stCondLst>
                      <p:childTnLst>
                        <p:par>
                          <p:cTn id="608" fill="hold">
                            <p:stCondLst>
                              <p:cond delay="0"/>
                            </p:stCondLst>
                            <p:childTnLst>
                              <p:par>
                                <p:cTn id="6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nsor Netwo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 network are collections of small, battery operated computers wit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nsors, and possibly actuators, to sense and control their environ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s, to report data and receive instru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ypical expected lifetimes range from a few months to several yea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ggested applications includ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, environmental or industrial monitoring, object trac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oda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e’ll build a simple “anti-theft” application using TinyOS 2.0, which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detects theft by light level or mov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s theft by blinking, beeping, to neighbours or to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is configurable from a central serve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less than 200 lines of co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0D19C-EF4A-4D24-A172-B1A429739671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AMSend as Theft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ses interface Receive as TheftReceiv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void theft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settings.alert &amp; ALERT_RADIO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TheftSend.send(AM_BROADCAST_ADDR, &amp;theftMsg, 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event message_t *TheftReceive.rece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message_t* msg, void *payload, uint8_t len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ftL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2" name=""/>
          <p:cNvSpPr/>
          <p:nvPr/>
        </p:nvSpPr>
        <p:spPr>
          <a:xfrm>
            <a:off x="368280" y="571680"/>
            <a:ext cx="8775720" cy="211896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ceive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void* payload, uint8_t len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uint8_t payloadLength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mand void* getPayload(message_t* msg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3" name=""/>
          <p:cNvSpPr/>
          <p:nvPr/>
        </p:nvSpPr>
        <p:spPr>
          <a:xfrm>
            <a:off x="3198960" y="46306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AMSend is just like send, but with a destin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theft message has no data, so no use of the payload function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On Receive, we just light the “bright red light”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9C02-4E5C-4889-BE81-E1D3308CBA8F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1" dur="indefinite" restart="never" nodeType="tmRoot">
          <p:childTnLst>
            <p:seq>
              <p:cTn id="612" dur="indefinite" nodeType="mainSeq">
                <p:childTnLst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ntiTheftAppC {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onents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SenderC(54) as SendTheft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new AMReceiverC(54) as ReceiveTheft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Send -&gt; Send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.TheftReceive -&gt; ReceiveThef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6" name=""/>
          <p:cNvSpPr/>
          <p:nvPr/>
        </p:nvSpPr>
        <p:spPr>
          <a:xfrm>
            <a:off x="3319560" y="4751280"/>
            <a:ext cx="5584680" cy="165096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Active Message ids used for dispatching are specified as parameters to the generic components used for active message sends and receives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7" name=""/>
          <p:cNvSpPr/>
          <p:nvPr/>
        </p:nvSpPr>
        <p:spPr>
          <a:xfrm>
            <a:off x="609480" y="3649680"/>
            <a:ext cx="6600960" cy="22096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AMSenderC(am_id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Sen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AMPacke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PacketAcknowledgements as Ack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4631E-06D9-4BF5-A47B-57A65B25336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7" dur="indefinite" restart="never" nodeType="tmRoot">
          <p:childTnLst>
            <p:seq>
              <p:cTn id="618" dur="indefinite" nodeType="mainSeq">
                <p:childTnLst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Basic” Networking – Buff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d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AMSenderC component has a 1-entry queue for a message_t *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outstanding send must use a separate message_t buff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p to application to ensure thi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monly: associate a variable with each Send/AMSend interface, and don’t reuse it until corresponding send complet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ceive passes you a message_t *, and wants one back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860a8"/>
                </a:solidFill>
                <a:latin typeface="Verdana"/>
              </a:rPr>
              <a:t>event message_t* receive(message_t* msg, ...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1: copy interesting data out of msg, return ms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pattern 2: return a different message, and access msg la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0" name=""/>
          <p:cNvSpPr/>
          <p:nvPr/>
        </p:nvSpPr>
        <p:spPr>
          <a:xfrm>
            <a:off x="1922400" y="942840"/>
            <a:ext cx="6926400" cy="444024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lastReceived = &amp;buff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message_t* receive(message_t* msg, ...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/* Return previous message buffer, save current msg *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essage_t *toReturn = lastReceived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Received = 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ost processMessag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turn toReturn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processMessage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se lastReceived ...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1D77F-543F-4B9D-83F0-12D94E1DDB60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3" dur="indefinite" restart="never" nodeType="tmRoot">
          <p:childTnLst>
            <p:seq>
              <p:cTn id="624" dur="indefinite" nodeType="mainSeq">
                <p:childTnLst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-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95280" y="950760"/>
            <a:ext cx="8515440" cy="506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o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composable (application-selected) network stac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-selected link lay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rtable, reusable code above the link lay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ross-platform communication (ex: telosb-micaz, PC-any mot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our-part solutio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bstract data type for packets (message_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on networking interfaces (Send, AMSend, Receiv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port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ternal” types (nx_struct, nx_uint16_t, etc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teroperable 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344520" indent="-34308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tworking component structuring principle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omposable, link layer independ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A1B9B-1AC1-4C6B-ABF6-3EDD435550C4}" type="slidenum">
              <a:t>4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5311080" y="4819680"/>
            <a:ext cx="1576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Serial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4348080" y="1752480"/>
            <a:ext cx="1273320" cy="3044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59" name=""/>
          <p:cNvSpPr/>
          <p:nvPr/>
        </p:nvSpPr>
        <p:spPr>
          <a:xfrm flipH="1">
            <a:off x="2712600" y="1754280"/>
            <a:ext cx="2143080" cy="305748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0" name=""/>
          <p:cNvSpPr/>
          <p:nvPr/>
        </p:nvSpPr>
        <p:spPr>
          <a:xfrm>
            <a:off x="4871880" y="1754280"/>
            <a:ext cx="1273320" cy="302724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2" name=""/>
          <p:cNvSpPr/>
          <p:nvPr/>
        </p:nvSpPr>
        <p:spPr>
          <a:xfrm>
            <a:off x="5396040" y="1843200"/>
            <a:ext cx="1214280" cy="295092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3" name=""/>
          <p:cNvSpPr/>
          <p:nvPr/>
        </p:nvSpPr>
        <p:spPr>
          <a:xfrm>
            <a:off x="6730560" y="2049480"/>
            <a:ext cx="1713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AM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D27C3-989D-43D3-9EFF-F19304A56A4C}" type="slidenum">
              <a:t>4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5" dur="indefinite" restart="never" nodeType="tmRoot">
          <p:childTnLst>
            <p:seq>
              <p:cTn id="676" dur="indefinite" nodeType="mainSeq">
                <p:childTnLst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1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0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1" fill="hold">
                            <p:stCondLst>
                              <p:cond delay="1000"/>
                            </p:stCondLst>
                            <p:childTnLst>
                              <p:par>
                                <p:cTn id="692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3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9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02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6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7" name=""/>
          <p:cNvSpPr/>
          <p:nvPr/>
        </p:nvSpPr>
        <p:spPr>
          <a:xfrm flipH="1">
            <a:off x="1977840" y="1754280"/>
            <a:ext cx="2384280" cy="3057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 flipH="1">
            <a:off x="3177720" y="1768320"/>
            <a:ext cx="2173320" cy="30290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69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B744B-2ADB-4627-AA88-E863FD446E1A}" type="slidenum">
              <a:t>4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5400" y="272520"/>
            <a:ext cx="835956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essaging: networking component structu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1" name=""/>
          <p:cNvSpPr/>
          <p:nvPr/>
        </p:nvSpPr>
        <p:spPr>
          <a:xfrm>
            <a:off x="1707120" y="4863960"/>
            <a:ext cx="1591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M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3847320" y="123660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3" name=""/>
          <p:cNvSpPr/>
          <p:nvPr/>
        </p:nvSpPr>
        <p:spPr>
          <a:xfrm flipH="1">
            <a:off x="1993680" y="1754280"/>
            <a:ext cx="2368440" cy="103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4" name=""/>
          <p:cNvSpPr/>
          <p:nvPr/>
        </p:nvSpPr>
        <p:spPr>
          <a:xfrm flipH="1">
            <a:off x="3103560" y="1768320"/>
            <a:ext cx="2247840" cy="106524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6914160" y="2049480"/>
            <a:ext cx="1344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860a8"/>
                </a:solidFill>
                <a:latin typeface="Verdana"/>
              </a:rPr>
              <a:t>Packet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5e647"/>
                </a:solidFill>
                <a:latin typeface="Verdana"/>
              </a:rPr>
              <a:t>Receiv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6" name=""/>
          <p:cNvSpPr/>
          <p:nvPr/>
        </p:nvSpPr>
        <p:spPr>
          <a:xfrm>
            <a:off x="1697760" y="2843280"/>
            <a:ext cx="16462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ollec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7" name=""/>
          <p:cNvSpPr/>
          <p:nvPr/>
        </p:nvSpPr>
        <p:spPr>
          <a:xfrm>
            <a:off x="1814400" y="3373560"/>
            <a:ext cx="14400" cy="14684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2998800" y="3373200"/>
            <a:ext cx="0" cy="1438200"/>
          </a:xfrm>
          <a:prstGeom prst="line">
            <a:avLst/>
          </a:prstGeom>
          <a:ln w="50760">
            <a:solidFill>
              <a:srgbClr val="f5e6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79" name=""/>
          <p:cNvSpPr/>
          <p:nvPr/>
        </p:nvSpPr>
        <p:spPr>
          <a:xfrm>
            <a:off x="2338560" y="3373560"/>
            <a:ext cx="0" cy="1468440"/>
          </a:xfrm>
          <a:prstGeom prst="line">
            <a:avLst/>
          </a:prstGeom>
          <a:ln w="50760">
            <a:solidFill>
              <a:srgbClr val="ff5c47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563920" y="1770120"/>
            <a:ext cx="2217600" cy="103356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81" name=""/>
          <p:cNvSpPr/>
          <p:nvPr/>
        </p:nvSpPr>
        <p:spPr>
          <a:xfrm>
            <a:off x="6878160" y="2832120"/>
            <a:ext cx="1419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Verdana"/>
              </a:rPr>
              <a:t>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5c47"/>
                </a:solidFill>
                <a:latin typeface="Verdana"/>
              </a:rPr>
              <a:t>AMSend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382" name=""/>
          <p:cNvGrpSpPr/>
          <p:nvPr/>
        </p:nvGrpSpPr>
        <p:grpSpPr>
          <a:xfrm>
            <a:off x="4390920" y="2870280"/>
            <a:ext cx="4272120" cy="1431360"/>
            <a:chOff x="4390920" y="2870280"/>
            <a:chExt cx="4272120" cy="1431360"/>
          </a:xfrm>
        </p:grpSpPr>
        <p:sp>
          <p:nvSpPr>
            <p:cNvPr id="383" name=""/>
            <p:cNvSpPr/>
            <p:nvPr/>
          </p:nvSpPr>
          <p:spPr>
            <a:xfrm>
              <a:off x="4390920" y="2878200"/>
              <a:ext cx="427212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6175440" y="2878200"/>
              <a:ext cx="0" cy="60012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5" name=""/>
            <p:cNvSpPr/>
            <p:nvPr/>
          </p:nvSpPr>
          <p:spPr>
            <a:xfrm rot="16200000">
              <a:off x="6696000" y="3098520"/>
              <a:ext cx="209880" cy="1241640"/>
            </a:xfrm>
            <a:custGeom>
              <a:avLst/>
              <a:gdLst>
                <a:gd name="textAreaLeft" fmla="*/ 134280 w 209880"/>
                <a:gd name="textAreaRight" fmla="*/ 210240 w 209880"/>
                <a:gd name="textAreaTop" fmla="*/ 32040 h 1241640"/>
                <a:gd name="textAreaBottom" fmla="*/ 1209600 h 1241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6372720" y="396432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4506840" y="2870280"/>
              <a:ext cx="143964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 + coll.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4287960" y="4556160"/>
            <a:ext cx="4271760" cy="1453320"/>
            <a:chOff x="4287960" y="4556160"/>
            <a:chExt cx="4271760" cy="1453320"/>
          </a:xfrm>
        </p:grpSpPr>
        <p:sp>
          <p:nvSpPr>
            <p:cNvPr id="389" name=""/>
            <p:cNvSpPr/>
            <p:nvPr/>
          </p:nvSpPr>
          <p:spPr>
            <a:xfrm>
              <a:off x="4287960" y="4586040"/>
              <a:ext cx="4271760" cy="600120"/>
            </a:xfrm>
            <a:prstGeom prst="rect">
              <a:avLst/>
            </a:prstGeom>
            <a:solidFill>
              <a:srgbClr val="ffffff"/>
            </a:solidFill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411880" y="4556160"/>
              <a:ext cx="0" cy="599760"/>
            </a:xfrm>
            <a:prstGeom prst="line">
              <a:avLst/>
            </a:prstGeom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1" name=""/>
            <p:cNvSpPr/>
            <p:nvPr/>
          </p:nvSpPr>
          <p:spPr>
            <a:xfrm rot="16200000">
              <a:off x="6285240" y="4499280"/>
              <a:ext cx="179640" cy="1885680"/>
            </a:xfrm>
            <a:custGeom>
              <a:avLst/>
              <a:gdLst>
                <a:gd name="textAreaLeft" fmla="*/ 114840 w 179640"/>
                <a:gd name="textAreaRight" fmla="*/ 180000 w 179640"/>
                <a:gd name="textAreaTop" fmla="*/ 48960 h 1885680"/>
                <a:gd name="textAreaBottom" fmla="*/ 1836720 h 1885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50760">
              <a:solidFill>
                <a:srgbClr val="0860a8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940720" y="5672160"/>
              <a:ext cx="810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Packet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4403160" y="4592520"/>
              <a:ext cx="8575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cc1000</a:t>
              </a:r>
              <a:br>
                <a:rPr sz="1600"/>
              </a:br>
              <a:r>
                <a:rPr b="0" lang="en-US" sz="1600" spc="-1" strike="noStrike">
                  <a:solidFill>
                    <a:srgbClr val="0860a8"/>
                  </a:solidFill>
                  <a:latin typeface="Verdana"/>
                </a:rPr>
                <a:t>header</a:t>
              </a:r>
              <a:endParaRPr b="0" lang="en-US" sz="16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394" name=""/>
          <p:cNvSpPr/>
          <p:nvPr/>
        </p:nvSpPr>
        <p:spPr>
          <a:xfrm>
            <a:off x="1873080" y="3971880"/>
            <a:ext cx="2354400" cy="87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3057480" y="2368440"/>
            <a:ext cx="1258920" cy="735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F797-FBD8-46F0-90BF-CDAF9442ECE6}" type="slidenum">
              <a:t>4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9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4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0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ant our anti-theft device to last a while, or the thief will just wait a bit to steal our motes!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uckily, in TinyOS 2, this is fairly straightforwar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ervices and hardware components switch themselves on and off based on whether they are in u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light sensor switched on just before a reading, and off just afterward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ex: accelerometer switched on before group reading, warms up for 17ms, does readings, switches off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he microcontroller is set to a power mode consistent with the rest of the 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799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adio reception is not as simple, as program doesn’t specify when messages might arriv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Applications can switch radio on or off explicitly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Or, applications can use TinyOS 2’s “low-power listening” support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Radio channel is checked every N ms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349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Messages sent with an N ms preamble (or repeatedly for N ms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349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860a8"/>
                </a:solidFill>
                <a:latin typeface="Verdana"/>
              </a:rPr>
              <a:t>User must specify N (default is N=0, i.e., always on)</a:t>
            </a:r>
            <a:endParaRPr b="0" lang="en-US" sz="1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45B3-B39F-4741-A376-ECCE68E6AEE7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5" fill="hold">
                      <p:stCondLst>
                        <p:cond delay="indefinite"/>
                      </p:stCondLst>
                      <p:childTnLst>
                        <p:par>
                          <p:cTn id="746" fill="hold">
                            <p:stCondLst>
                              <p:cond delay="0"/>
                            </p:stCondLst>
                            <p:childTnLst>
                              <p:par>
                                <p:cTn id="7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Using Low-power Listening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dule AntiTheftC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es interface RadioControl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uses interface LowPowerListening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vent void RadioControl.startDone(error_t ok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ok == SUCCES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all CollectionControl.star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call LowPowerListening.setLocalDutyCycle(200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0" name=""/>
          <p:cNvSpPr/>
          <p:nvPr/>
        </p:nvSpPr>
        <p:spPr>
          <a:xfrm>
            <a:off x="3003480" y="4330800"/>
            <a:ext cx="5780160" cy="120168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request that the radio use a 2% duty-cycle low-power listening strateg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We wire the interface to the actual radio (not shown)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D0AB9-DF6F-4968-8F2C-6289D741D1D7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1445760" y="4533840"/>
            <a:ext cx="594828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ff: 11.83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3" name=""/>
          <p:cNvGraphicFramePr/>
          <p:nvPr/>
        </p:nvGraphicFramePr>
        <p:xfrm>
          <a:off x="473040" y="895320"/>
          <a:ext cx="7570800" cy="3513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895320"/>
                    <a:ext cx="7570800" cy="3513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223DC-E1A0-495B-A66C-5A035055ADFD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halleng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riven by interaction with environment (“Am I being stolen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collection and control, not general purpose computation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quires event-driven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tremely limited resources (“2 AA’s, 4kB of RAM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ery low cost, size, and power consump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liability for long-lived applications (“Don’t steal me in a year!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pps run for months/years without human interven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duce run time errors and complex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al-time requirements (“What is movement anyway?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time-critical tasks (sensor acquisition and radio timing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ming constraints through complete control over app and 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stant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31226-9860-42A9-90FA-DDF81CD55DE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963360" y="4502160"/>
            <a:ext cx="716436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ccelerometer power management enabled: 11.4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07" name=""/>
          <p:cNvGraphicFramePr/>
          <p:nvPr/>
        </p:nvGraphicFramePr>
        <p:xfrm>
          <a:off x="473040" y="901800"/>
          <a:ext cx="7943760" cy="3549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3040" y="901800"/>
                    <a:ext cx="7943760" cy="354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88777-42C8-4241-9E60-1DA98FDAA59D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2165040" y="4548240"/>
            <a:ext cx="5049720" cy="93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Low-power listening enabled: 4.26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1" name=""/>
          <p:cNvGraphicFramePr/>
          <p:nvPr/>
        </p:nvGraphicFramePr>
        <p:xfrm>
          <a:off x="458640" y="949320"/>
          <a:ext cx="7823520" cy="3489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8640" y="949320"/>
                    <a:ext cx="782352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B17D3-4E9E-472E-8C71-D96BA19C02D2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effec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1834920" y="4547880"/>
            <a:ext cx="5948280" cy="153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Processor power management enabled, 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all power management switched on: 1.04mA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Checking acceleration every second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graphicFrame>
        <p:nvGraphicFramePr>
          <p:cNvPr id="415" name=""/>
          <p:cNvGraphicFramePr/>
          <p:nvPr/>
        </p:nvGraphicFramePr>
        <p:xfrm>
          <a:off x="455760" y="934920"/>
          <a:ext cx="8259480" cy="3684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5760" y="934920"/>
                    <a:ext cx="8259480" cy="3684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C72CD-471D-4118-82FF-092535E2B655}" type="slidenum">
              <a:t>5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For Experts”: implementing device drivers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ing a service, such as the timer or the light sensor involves one or more of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tting up support for multiple clients (via generic component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aging concurrent requests to the service (resource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owering any necessary hardware on and off (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ssing low-level hardware, dealing with interrupts (concurrenc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o see these issues in some detail, we’ll look at the example of a simple analog sensor connected to an A/D channel of the microcontroll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ilar, but simpler than the PhotoC sensor used in AntiTheftC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(that sensor shares and A/D channel with a temperature sensor, and needs a warmup period, complicating resource and power management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DED25-EC27-4015-9BD3-CDFF0B638EBE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simple light sensor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5760" y="1130400"/>
            <a:ext cx="4813200" cy="48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 steps to sample light senso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tup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n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figure A/D converter for channel 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itiate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 A/D interrupt handler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ad A/D result regist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port reading to applica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A/D convert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urn off voltage on PW1 pi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grpSp>
        <p:nvGrpSpPr>
          <p:cNvPr id="421" name=""/>
          <p:cNvGrpSpPr/>
          <p:nvPr/>
        </p:nvGrpSpPr>
        <p:grpSpPr>
          <a:xfrm>
            <a:off x="6093000" y="1071720"/>
            <a:ext cx="2712960" cy="2955600"/>
            <a:chOff x="6093000" y="1071720"/>
            <a:chExt cx="2712960" cy="2955600"/>
          </a:xfrm>
        </p:grpSpPr>
        <p:pic>
          <p:nvPicPr>
            <p:cNvPr id="422" name="" descr=""/>
            <p:cNvPicPr/>
            <p:nvPr/>
          </p:nvPicPr>
          <p:blipFill>
            <a:blip r:embed="rId1"/>
            <a:stretch/>
          </p:blipFill>
          <p:spPr>
            <a:xfrm>
              <a:off x="6093000" y="1071720"/>
              <a:ext cx="2712960" cy="245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23" name=""/>
            <p:cNvSpPr/>
            <p:nvPr/>
          </p:nvSpPr>
          <p:spPr>
            <a:xfrm>
              <a:off x="6238440" y="3384720"/>
              <a:ext cx="23554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PW1, ADC6 are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microcontroller pins</a:t>
              </a:r>
              <a:endParaRPr b="0" lang="en-US" sz="1800" spc="-1" strike="noStrike">
                <a:solidFill>
                  <a:srgbClr val="0860a8"/>
                </a:solidFill>
                <a:latin typeface="Verdana"/>
              </a:endParaRPr>
            </a:p>
          </p:txBody>
        </p:sp>
      </p:grpSp>
      <p:sp>
        <p:nvSpPr>
          <p:cNvPr id="424" name=""/>
          <p:cNvSpPr/>
          <p:nvPr/>
        </p:nvSpPr>
        <p:spPr>
          <a:xfrm>
            <a:off x="2990880" y="4152960"/>
            <a:ext cx="5897520" cy="2338200"/>
          </a:xfrm>
          <a:prstGeom prst="foldedCorner">
            <a:avLst>
              <a:gd name="adj" fmla="val 12500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posing sensor (maybe) and A/D converter (definitely) to multiple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management: need to share light sensor and A/D converter with other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Power management: should leave sensor or A/D on between consecutive clients or for repeated access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st avoid data races in interrupt handler and interrupt handler setup cod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CBAE-CB65-470D-B749-96C131565C5B}" type="slidenum">
              <a:t>5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1" dur="indefinite" restart="never" nodeType="tmRoot">
          <p:childTnLst>
            <p:seq>
              <p:cTn id="772" dur="indefinite" nodeType="mainSeq">
                <p:childTnLst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7" fill="hold">
                      <p:stCondLst>
                        <p:cond delay="indefinite"/>
                      </p:stCondLst>
                      <p:childTnLst>
                        <p:par>
                          <p:cTn id="778" fill="hold">
                            <p:stCondLst>
                              <p:cond delay="0"/>
                            </p:stCondLst>
                            <p:childTnLst>
                              <p:par>
                                <p:cTn id="7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1" fill="hold">
                      <p:stCondLst>
                        <p:cond delay="indefinite"/>
                      </p:stCondLst>
                      <p:childTnLst>
                        <p:par>
                          <p:cTn id="782" fill="hold">
                            <p:stCondLst>
                              <p:cond delay="0"/>
                            </p:stCondLst>
                            <p:childTnLst>
                              <p:par>
                                <p:cTn id="7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9" fill="hold">
                      <p:stCondLst>
                        <p:cond delay="indefinite"/>
                      </p:stCondLst>
                      <p:childTnLst>
                        <p:par>
                          <p:cTn id="790" fill="hold">
                            <p:stCondLst>
                              <p:cond delay="0"/>
                            </p:stCondLst>
                            <p:childTnLst>
                              <p:par>
                                <p:cTn id="7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fill="hold">
                      <p:stCondLst>
                        <p:cond delay="indefinite"/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972B9-F540-4EE7-8820-39B6FAC924DF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0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1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4" name=""/>
          <p:cNvSpPr/>
          <p:nvPr/>
        </p:nvSpPr>
        <p:spPr>
          <a:xfrm>
            <a:off x="2158920" y="2773440"/>
            <a:ext cx="2712960" cy="130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5" name=""/>
          <p:cNvSpPr/>
          <p:nvPr/>
        </p:nvSpPr>
        <p:spPr>
          <a:xfrm flipH="1">
            <a:off x="4856040" y="2803680"/>
            <a:ext cx="525600" cy="1288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81237-E946-459B-853B-F264FAAD4EF6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8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39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0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1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2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3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4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5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6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7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8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49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0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860a8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1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2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3" name=""/>
          <p:cNvSpPr/>
          <p:nvPr/>
        </p:nvSpPr>
        <p:spPr>
          <a:xfrm>
            <a:off x="1978200" y="2787480"/>
            <a:ext cx="2984400" cy="12747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93035-AD21-4726-8C47-51E5C5DEE23F}" type="slidenum">
              <a:t>5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3" dur="indefinite" restart="never" nodeType="tmRoot">
          <p:childTnLst>
            <p:seq>
              <p:cTn id="824" dur="indefinite" nodeType="mainSeq">
                <p:childTnLst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1" fill="hold">
                      <p:stCondLst>
                        <p:cond delay="indefinite"/>
                      </p:stCondLst>
                      <p:childTnLst>
                        <p:par>
                          <p:cTn id="832" fill="hold">
                            <p:stCondLst>
                              <p:cond delay="0"/>
                            </p:stCondLst>
                            <p:childTnLst>
                              <p:par>
                                <p:cTn id="83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834" dur="2000" fill="hold"/>
                                        <p:tgtEl>
                                          <p:spTgt spid="4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5e647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5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6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7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8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59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0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1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2" name=""/>
          <p:cNvSpPr/>
          <p:nvPr/>
        </p:nvSpPr>
        <p:spPr>
          <a:xfrm>
            <a:off x="7050240" y="2048040"/>
            <a:ext cx="1693800" cy="39024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3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4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5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6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7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8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69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0" name=""/>
          <p:cNvSpPr/>
          <p:nvPr/>
        </p:nvSpPr>
        <p:spPr>
          <a:xfrm>
            <a:off x="4682520" y="4125960"/>
            <a:ext cx="943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1" name=""/>
          <p:cNvSpPr/>
          <p:nvPr/>
        </p:nvSpPr>
        <p:spPr>
          <a:xfrm flipV="1">
            <a:off x="5126040" y="464652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2" name=""/>
          <p:cNvSpPr/>
          <p:nvPr/>
        </p:nvSpPr>
        <p:spPr>
          <a:xfrm flipH="1" flipV="1">
            <a:off x="2112840" y="2803680"/>
            <a:ext cx="2773440" cy="12729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3" name=""/>
          <p:cNvSpPr/>
          <p:nvPr/>
        </p:nvSpPr>
        <p:spPr>
          <a:xfrm flipH="1" flipV="1">
            <a:off x="4827240" y="2787120"/>
            <a:ext cx="58680" cy="128916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749D5-A918-4595-B790-CB2D241F8A14}" type="slidenum">
              <a:t>5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fill="hold">
                      <p:stCondLst>
                        <p:cond delay="indefinite"/>
                      </p:stCondLst>
                      <p:childTnLst>
                        <p:par>
                          <p:cTn id="844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4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5" fill="hold">
                      <p:stCondLst>
                        <p:cond delay="indefinite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A Fix: Parameterised Interfa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 interface Read&lt;uint16_t&gt;[uint8_t id]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an array of interfaces, each identified by an integ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ach of these interfaces can be wired differentl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mpiles to a runtime dispatch on the identifier, or </a:t>
            </a:r>
            <a:br>
              <a:rPr sz="1800"/>
            </a:b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n extra argument on function cal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ften, components just want any interface, as long as it’s not used by someone els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(“some string”): returns a different number at each use with the same string, from a contiguous sequence starting at 0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niqueCount(“some string”): returns the number of uses of unique(“some string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ED017-8D9D-44CB-8F7E-CD6CE1695427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Outlin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nesC overview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uilding a simple anti-theft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e Basic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dvanced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Basic”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BREAK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ing Pow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For experts: implementing device driv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source and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view and Conclu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CC0B6-E044-4FB9-99CB-33E28DE9C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</a:t>
            </a:r>
            <a:r>
              <a:rPr b="1" lang="fr-FR" sz="1800" spc="-1" strike="noStrike">
                <a:solidFill>
                  <a:srgbClr val="ff0000"/>
                </a:solidFill>
                <a:latin typeface="Verdana"/>
              </a:rPr>
              <a:t>[uint8_t client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[uint8_t c]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client = c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[client]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1C8DF-2DC4-42FA-9D1C-DA8F74A69216}" type="slidenum">
              <a:t>6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ic configuration AdcReadClientC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um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ID = unique(“adc.resource”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.Read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[ID]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7BCF6-18EB-402E-B846-738659F441C6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1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2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3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4" name=""/>
          <p:cNvSpPr/>
          <p:nvPr/>
        </p:nvSpPr>
        <p:spPr>
          <a:xfrm>
            <a:off x="4346640" y="439416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5" name=""/>
          <p:cNvSpPr/>
          <p:nvPr/>
        </p:nvSpPr>
        <p:spPr>
          <a:xfrm flipH="1">
            <a:off x="2219400" y="1333440"/>
            <a:ext cx="1154160" cy="870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6" name=""/>
          <p:cNvSpPr/>
          <p:nvPr/>
        </p:nvSpPr>
        <p:spPr>
          <a:xfrm>
            <a:off x="4346640" y="1319040"/>
            <a:ext cx="509400" cy="9144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7" name=""/>
          <p:cNvSpPr/>
          <p:nvPr/>
        </p:nvSpPr>
        <p:spPr>
          <a:xfrm>
            <a:off x="1919160" y="2577960"/>
            <a:ext cx="2652840" cy="15732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8" name=""/>
          <p:cNvSpPr/>
          <p:nvPr/>
        </p:nvSpPr>
        <p:spPr>
          <a:xfrm flipH="1">
            <a:off x="4781520" y="2698920"/>
            <a:ext cx="735120" cy="14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89" name=""/>
          <p:cNvSpPr/>
          <p:nvPr/>
        </p:nvSpPr>
        <p:spPr>
          <a:xfrm>
            <a:off x="5247720" y="3578400"/>
            <a:ext cx="225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ead interfa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0" name=""/>
          <p:cNvSpPr/>
          <p:nvPr/>
        </p:nvSpPr>
        <p:spPr>
          <a:xfrm>
            <a:off x="451152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1" name=""/>
          <p:cNvSpPr/>
          <p:nvPr/>
        </p:nvSpPr>
        <p:spPr>
          <a:xfrm>
            <a:off x="4678200" y="4168800"/>
            <a:ext cx="165240" cy="16524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2AB78-309B-44B0-BEB8-75D66DAFD564}" type="slidenum">
              <a:t>6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Services with Multiple Client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3" name=""/>
          <p:cNvSpPr/>
          <p:nvPr/>
        </p:nvSpPr>
        <p:spPr>
          <a:xfrm>
            <a:off x="4133880" y="2263680"/>
            <a:ext cx="21934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ccelStream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4" name=""/>
          <p:cNvSpPr/>
          <p:nvPr/>
        </p:nvSpPr>
        <p:spPr>
          <a:xfrm>
            <a:off x="3232440" y="779400"/>
            <a:ext cx="1740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ntiTheft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5" name=""/>
          <p:cNvSpPr/>
          <p:nvPr/>
        </p:nvSpPr>
        <p:spPr>
          <a:xfrm>
            <a:off x="7059600" y="169380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6" name=""/>
          <p:cNvSpPr/>
          <p:nvPr/>
        </p:nvSpPr>
        <p:spPr>
          <a:xfrm>
            <a:off x="7431840" y="1135080"/>
            <a:ext cx="938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Stack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7" name=""/>
          <p:cNvSpPr/>
          <p:nvPr/>
        </p:nvSpPr>
        <p:spPr>
          <a:xfrm>
            <a:off x="7050240" y="2058840"/>
            <a:ext cx="1693800" cy="390600"/>
          </a:xfrm>
          <a:prstGeom prst="rect">
            <a:avLst/>
          </a:prstGeom>
          <a:solidFill>
            <a:srgbClr val="ffffff"/>
          </a:solidFill>
          <a:ln w="93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8" name=""/>
          <p:cNvSpPr/>
          <p:nvPr/>
        </p:nvSpPr>
        <p:spPr>
          <a:xfrm>
            <a:off x="7031160" y="3446640"/>
            <a:ext cx="186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860a8"/>
                </a:solidFill>
                <a:uFillTx/>
                <a:latin typeface="Verdana"/>
              </a:rPr>
              <a:t>Task Queu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99" name=""/>
          <p:cNvSpPr/>
          <p:nvPr/>
        </p:nvSpPr>
        <p:spPr>
          <a:xfrm>
            <a:off x="1341360" y="2255760"/>
            <a:ext cx="10411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0" name=""/>
          <p:cNvSpPr/>
          <p:nvPr/>
        </p:nvSpPr>
        <p:spPr>
          <a:xfrm>
            <a:off x="1289160" y="5337000"/>
            <a:ext cx="4767120" cy="628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1" name=""/>
          <p:cNvSpPr/>
          <p:nvPr/>
        </p:nvSpPr>
        <p:spPr>
          <a:xfrm>
            <a:off x="2773440" y="5351400"/>
            <a:ext cx="0" cy="6001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2" name=""/>
          <p:cNvSpPr/>
          <p:nvPr/>
        </p:nvSpPr>
        <p:spPr>
          <a:xfrm>
            <a:off x="4349880" y="5353200"/>
            <a:ext cx="0" cy="59976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3" name=""/>
          <p:cNvSpPr/>
          <p:nvPr/>
        </p:nvSpPr>
        <p:spPr>
          <a:xfrm>
            <a:off x="1551240" y="5234040"/>
            <a:ext cx="10324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serial</a:t>
            </a:r>
            <a:br>
              <a:rPr sz="2000"/>
            </a:b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receive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4" name=""/>
          <p:cNvSpPr/>
          <p:nvPr/>
        </p:nvSpPr>
        <p:spPr>
          <a:xfrm>
            <a:off x="2820240" y="5415120"/>
            <a:ext cx="140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60a8"/>
                </a:solidFill>
                <a:latin typeface="Verdana"/>
              </a:rPr>
              <a:t>H/W timer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5" name=""/>
          <p:cNvSpPr/>
          <p:nvPr/>
        </p:nvSpPr>
        <p:spPr>
          <a:xfrm>
            <a:off x="4517280" y="5448240"/>
            <a:ext cx="1320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0000"/>
                </a:solidFill>
                <a:latin typeface="Verdana"/>
              </a:rPr>
              <a:t>A/D conv.</a:t>
            </a:r>
            <a:endParaRPr b="0" lang="en-US" sz="20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6" name=""/>
          <p:cNvSpPr/>
          <p:nvPr/>
        </p:nvSpPr>
        <p:spPr>
          <a:xfrm>
            <a:off x="6275880" y="5392800"/>
            <a:ext cx="229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Interrupt tabl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7" name=""/>
          <p:cNvSpPr/>
          <p:nvPr/>
        </p:nvSpPr>
        <p:spPr>
          <a:xfrm flipH="1" flipV="1">
            <a:off x="5111640" y="4750920"/>
            <a:ext cx="14400" cy="58572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8" name=""/>
          <p:cNvSpPr/>
          <p:nvPr/>
        </p:nvSpPr>
        <p:spPr>
          <a:xfrm flipH="1" flipV="1">
            <a:off x="2112480" y="2803320"/>
            <a:ext cx="2489400" cy="115380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09" name=""/>
          <p:cNvSpPr/>
          <p:nvPr/>
        </p:nvSpPr>
        <p:spPr>
          <a:xfrm>
            <a:off x="4376880" y="4214880"/>
            <a:ext cx="1660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AdcP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0" name=""/>
          <p:cNvSpPr/>
          <p:nvPr/>
        </p:nvSpPr>
        <p:spPr>
          <a:xfrm>
            <a:off x="454176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1" name=""/>
          <p:cNvSpPr/>
          <p:nvPr/>
        </p:nvSpPr>
        <p:spPr>
          <a:xfrm>
            <a:off x="4708440" y="3989520"/>
            <a:ext cx="165240" cy="164880"/>
          </a:xfrm>
          <a:prstGeom prst="rect">
            <a:avLst/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74F-E62D-4F73-B598-9CCD97C930EE}" type="slidenum">
              <a:t>6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1" dur="indefinite" restart="never" nodeType="tmRoot">
          <p:childTnLst>
            <p:seq>
              <p:cTn id="862" dur="indefinite" nodeType="mainSeq">
                <p:childTnLst>
                  <p:par>
                    <p:cTn id="863" fill="hold">
                      <p:stCondLst>
                        <p:cond delay="indefinite"/>
                      </p:stCondLst>
                      <p:childTnLst>
                        <p:par>
                          <p:cTn id="864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ngle application, but still many services competing for resources,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 in application and multihop rout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in network reprogramming and delay-tolerant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/D converter used for sensing and CSMA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ifferent requirements from different 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clusive access: CC2420 radio on micaz physically connected to capture pin for hardware timer 1 </a:t>
            </a:r>
            <a:r>
              <a:rPr b="0" lang="en-GB" sz="1800" spc="-1" strike="noStrike">
                <a:solidFill>
                  <a:srgbClr val="0860a8"/>
                </a:solidFill>
                <a:latin typeface="Symbol"/>
                <a:ea typeface="Symbol"/>
              </a:rPr>
              <a:t>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ust reserve timer 1 for radio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atency sensitive: low-jitter multi-kHz A/D sampl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st effort: wake me every 5 minutes for sampling, and every 12 for route maintena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4" name=""/>
          <p:cNvSpPr/>
          <p:nvPr/>
        </p:nvSpPr>
        <p:spPr>
          <a:xfrm>
            <a:off x="382680" y="4986360"/>
            <a:ext cx="8515080" cy="72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3 kinds of resour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, dedicated, 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34C9-DDDE-4625-8B45-FBB1BBDE5F55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7" dur="indefinite" restart="never" nodeType="tmRoot">
          <p:childTnLst>
            <p:seq>
              <p:cTn id="888" dur="indefinite" nodeType="mainSeq">
                <p:childTnLst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13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7" name=""/>
          <p:cNvSpPr/>
          <p:nvPr/>
        </p:nvSpPr>
        <p:spPr>
          <a:xfrm>
            <a:off x="1190520" y="3308400"/>
            <a:ext cx="213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C2420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8" name=""/>
          <p:cNvSpPr/>
          <p:nvPr/>
        </p:nvSpPr>
        <p:spPr>
          <a:xfrm>
            <a:off x="4203720" y="3252960"/>
            <a:ext cx="2684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ninformed us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19" name=""/>
          <p:cNvSpPr/>
          <p:nvPr/>
        </p:nvSpPr>
        <p:spPr>
          <a:xfrm>
            <a:off x="1253880" y="5067360"/>
            <a:ext cx="20163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1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0" name=""/>
          <p:cNvSpPr/>
          <p:nvPr/>
        </p:nvSpPr>
        <p:spPr>
          <a:xfrm>
            <a:off x="2158920" y="3836880"/>
            <a:ext cx="0" cy="12146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1" name=""/>
          <p:cNvSpPr/>
          <p:nvPr/>
        </p:nvSpPr>
        <p:spPr>
          <a:xfrm flipV="1">
            <a:off x="2352600" y="3806640"/>
            <a:ext cx="0" cy="11998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2" name=""/>
          <p:cNvSpPr/>
          <p:nvPr/>
        </p:nvSpPr>
        <p:spPr>
          <a:xfrm flipH="1">
            <a:off x="3072960" y="3778200"/>
            <a:ext cx="1513080" cy="12589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3" name=""/>
          <p:cNvSpPr/>
          <p:nvPr/>
        </p:nvSpPr>
        <p:spPr>
          <a:xfrm>
            <a:off x="3867120" y="4406760"/>
            <a:ext cx="660600" cy="374760"/>
          </a:xfrm>
          <a:prstGeom prst="line">
            <a:avLst/>
          </a:prstGeom>
          <a:ln w="12600">
            <a:solidFill>
              <a:srgbClr val="aa014c"/>
            </a:solidFill>
            <a:miter/>
            <a:headEnd len="med" type="arrow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4" name=""/>
          <p:cNvSpPr/>
          <p:nvPr/>
        </p:nvSpPr>
        <p:spPr>
          <a:xfrm>
            <a:off x="4162320" y="4792680"/>
            <a:ext cx="2873520" cy="459720"/>
          </a:xfrm>
          <a:prstGeom prst="rect">
            <a:avLst/>
          </a:prstGeom>
          <a:noFill/>
          <a:ln w="12600">
            <a:solidFill>
              <a:srgbClr val="aa014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aa014c"/>
                </a:solidFill>
                <a:latin typeface="Verdana"/>
              </a:rPr>
              <a:t>compile-time err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A81F2-2D7D-45CC-9ABE-33E9892284A5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3" dur="indefinite" restart="never" nodeType="tmRoot">
          <p:childTnLst>
            <p:seq>
              <p:cTn id="894" dur="indefinite" nodeType="mainSeq">
                <p:childTnLst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3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9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Dedic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ngle client pick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ptional compile-time check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st lowest-level hardware abstractions, e.g., hardware tim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8E7C2-3665-4349-98D6-B0B988EA50F3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46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29" name=""/>
          <p:cNvSpPr/>
          <p:nvPr/>
        </p:nvSpPr>
        <p:spPr>
          <a:xfrm>
            <a:off x="3453840" y="5405400"/>
            <a:ext cx="1956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H/W timer 0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0" name=""/>
          <p:cNvSpPr/>
          <p:nvPr/>
        </p:nvSpPr>
        <p:spPr>
          <a:xfrm>
            <a:off x="1508400" y="2575080"/>
            <a:ext cx="25819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eriodic sens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1" name=""/>
          <p:cNvSpPr/>
          <p:nvPr/>
        </p:nvSpPr>
        <p:spPr>
          <a:xfrm>
            <a:off x="4777560" y="2606760"/>
            <a:ext cx="32526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860a8"/>
                </a:solidFill>
                <a:latin typeface="Verdana"/>
              </a:rPr>
              <a:t>multihop networking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2" name=""/>
          <p:cNvSpPr/>
          <p:nvPr/>
        </p:nvSpPr>
        <p:spPr>
          <a:xfrm>
            <a:off x="3090960" y="4297320"/>
            <a:ext cx="2711520" cy="5475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3" name=""/>
          <p:cNvSpPr/>
          <p:nvPr/>
        </p:nvSpPr>
        <p:spPr>
          <a:xfrm>
            <a:off x="3166200" y="375768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4" name=""/>
          <p:cNvSpPr/>
          <p:nvPr/>
        </p:nvSpPr>
        <p:spPr>
          <a:xfrm>
            <a:off x="4742640" y="3774960"/>
            <a:ext cx="100296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tim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5" name=""/>
          <p:cNvSpPr/>
          <p:nvPr/>
        </p:nvSpPr>
        <p:spPr>
          <a:xfrm>
            <a:off x="3117960" y="3103560"/>
            <a:ext cx="1951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6" name=""/>
          <p:cNvSpPr/>
          <p:nvPr/>
        </p:nvSpPr>
        <p:spPr>
          <a:xfrm flipH="1" flipV="1">
            <a:off x="3252960" y="3103200"/>
            <a:ext cx="209520" cy="6145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7" name=""/>
          <p:cNvSpPr/>
          <p:nvPr/>
        </p:nvSpPr>
        <p:spPr>
          <a:xfrm flipH="1">
            <a:off x="5171760" y="3117960"/>
            <a:ext cx="135000" cy="6300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8" name=""/>
          <p:cNvSpPr/>
          <p:nvPr/>
        </p:nvSpPr>
        <p:spPr>
          <a:xfrm flipV="1">
            <a:off x="5291280" y="3117960"/>
            <a:ext cx="164880" cy="614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39" name=""/>
          <p:cNvSpPr/>
          <p:nvPr/>
        </p:nvSpPr>
        <p:spPr>
          <a:xfrm>
            <a:off x="4302000" y="484200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0" name=""/>
          <p:cNvSpPr/>
          <p:nvPr/>
        </p:nvSpPr>
        <p:spPr>
          <a:xfrm flipV="1">
            <a:off x="4481640" y="4841640"/>
            <a:ext cx="0" cy="52380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1" name=""/>
          <p:cNvSpPr/>
          <p:nvPr/>
        </p:nvSpPr>
        <p:spPr>
          <a:xfrm>
            <a:off x="6236640" y="3322800"/>
            <a:ext cx="243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virtual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2" name=""/>
          <p:cNvSpPr/>
          <p:nvPr/>
        </p:nvSpPr>
        <p:spPr>
          <a:xfrm>
            <a:off x="5857920" y="4946760"/>
            <a:ext cx="309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dedicated resour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3" name=""/>
          <p:cNvSpPr/>
          <p:nvPr/>
        </p:nvSpPr>
        <p:spPr>
          <a:xfrm flipH="1" flipV="1">
            <a:off x="5456160" y="3462120"/>
            <a:ext cx="719280" cy="7452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4" name=""/>
          <p:cNvSpPr/>
          <p:nvPr/>
        </p:nvSpPr>
        <p:spPr>
          <a:xfrm>
            <a:off x="4602240" y="5141880"/>
            <a:ext cx="1333440" cy="44640"/>
          </a:xfrm>
          <a:prstGeom prst="line">
            <a:avLst/>
          </a:prstGeom>
          <a:ln w="1260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DA595-32BA-4DE9-9281-EFFF3462DBD6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0" dur="indefinite" restart="never" nodeType="tmRoot">
          <p:childTnLst>
            <p:seq>
              <p:cTn id="921" dur="indefinite" nodeType="mainSeq">
                <p:childTnLst>
                  <p:par>
                    <p:cTn id="922" fill="hold">
                      <p:stCondLst>
                        <p:cond delay="indefinite"/>
                      </p:stCondLst>
                      <p:childTnLst>
                        <p:par>
                          <p:cTn id="923" fill="hold">
                            <p:stCondLst>
                              <p:cond delay="0"/>
                            </p:stCondLst>
                            <p:childTnLst>
                              <p:par>
                                <p:cTn id="9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0" fill="hold">
                      <p:stCondLst>
                        <p:cond delay="indefinite"/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7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0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3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2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5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Virtualis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implementation virtualises resource between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cli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pert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haring-induced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un-time overhea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x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cheduler, timers, radio send queu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04CA-24EB-4A26-8D8F-F66C7C0E3A5E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49" name=""/>
          <p:cNvSpPr/>
          <p:nvPr/>
        </p:nvSpPr>
        <p:spPr>
          <a:xfrm>
            <a:off x="3759120" y="534996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0" name=""/>
          <p:cNvSpPr/>
          <p:nvPr/>
        </p:nvSpPr>
        <p:spPr>
          <a:xfrm>
            <a:off x="5462640" y="3282840"/>
            <a:ext cx="18885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1" name=""/>
          <p:cNvSpPr/>
          <p:nvPr/>
        </p:nvSpPr>
        <p:spPr>
          <a:xfrm>
            <a:off x="2652840" y="329400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2" name=""/>
          <p:cNvSpPr/>
          <p:nvPr/>
        </p:nvSpPr>
        <p:spPr>
          <a:xfrm>
            <a:off x="3419640" y="3821040"/>
            <a:ext cx="563400" cy="1527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3" name="" descr=""/>
          <p:cNvPicPr/>
          <p:nvPr/>
        </p:nvPicPr>
        <p:blipFill>
          <a:blip r:embed="rId1"/>
          <a:stretch/>
        </p:blipFill>
        <p:spPr>
          <a:xfrm>
            <a:off x="5724360" y="5118120"/>
            <a:ext cx="858960" cy="91296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 flipH="1" flipV="1">
            <a:off x="3627360" y="3822840"/>
            <a:ext cx="525600" cy="149832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5" name=""/>
          <p:cNvSpPr/>
          <p:nvPr/>
        </p:nvSpPr>
        <p:spPr>
          <a:xfrm flipH="1">
            <a:off x="4946400" y="3807000"/>
            <a:ext cx="479160" cy="154440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56" name=""/>
          <p:cNvSpPr/>
          <p:nvPr/>
        </p:nvSpPr>
        <p:spPr>
          <a:xfrm>
            <a:off x="4092480" y="3822840"/>
            <a:ext cx="493920" cy="15141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57" name="" descr=""/>
          <p:cNvPicPr/>
          <p:nvPr/>
        </p:nvPicPr>
        <p:blipFill>
          <a:blip r:embed="rId2"/>
          <a:stretch/>
        </p:blipFill>
        <p:spPr>
          <a:xfrm>
            <a:off x="7677000" y="3195720"/>
            <a:ext cx="717840" cy="691920"/>
          </a:xfrm>
          <a:prstGeom prst="rect">
            <a:avLst/>
          </a:prstGeom>
          <a:ln w="0">
            <a:noFill/>
          </a:ln>
        </p:spPr>
      </p:pic>
      <p:sp>
        <p:nvSpPr>
          <p:cNvPr id="558" name=""/>
          <p:cNvSpPr/>
          <p:nvPr/>
        </p:nvSpPr>
        <p:spPr>
          <a:xfrm>
            <a:off x="5068080" y="4765680"/>
            <a:ext cx="45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a014c"/>
                </a:solidFill>
                <a:latin typeface="Verdana"/>
              </a:rPr>
              <a:t>X</a:t>
            </a:r>
            <a:endParaRPr b="0" lang="en-US" sz="32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60A7-C178-4B36-83F2-C8642CE2C43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indefinite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6" fill="hold">
                      <p:stCondLst>
                        <p:cond delay="indefinite"/>
                      </p:stCondLst>
                      <p:childTnLst>
                        <p:par>
                          <p:cTn id="977" fill="hold">
                            <p:stCondLst>
                              <p:cond delay="0"/>
                            </p:stCondLst>
                            <p:childTnLst>
                              <p:par>
                                <p:cTn id="9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3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4" fill="hold">
                      <p:stCondLst>
                        <p:cond delay="indefinite"/>
                      </p:stCondLst>
                      <p:childTnLst>
                        <p:par>
                          <p:cTn id="985" fill="hold">
                            <p:stCondLst>
                              <p:cond delay="0"/>
                            </p:stCondLst>
                            <p:childTnLst>
                              <p:par>
                                <p:cTn id="9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9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0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3" dur="20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5" fill="hold">
                      <p:stCondLst>
                        <p:cond delay="indefinite"/>
                      </p:stCondLst>
                      <p:childTnLst>
                        <p:par>
                          <p:cTn id="996" fill="hold">
                            <p:stCondLst>
                              <p:cond delay="0"/>
                            </p:stCondLst>
                            <p:childTnLst>
                              <p:par>
                                <p:cTn id="99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2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5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6" fill="hold">
                      <p:stCondLst>
                        <p:cond delay="indefinite"/>
                      </p:stCondLst>
                      <p:childTnLst>
                        <p:par>
                          <p:cTn id="1007" fill="hold">
                            <p:stCondLst>
                              <p:cond delay="0"/>
                            </p:stCondLst>
                            <p:childTnLst>
                              <p:par>
                                <p:cTn id="10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fill="hold">
                      <p:stCondLst>
                        <p:cond delay="indefinite"/>
                      </p:stCondLst>
                      <p:childTnLst>
                        <p:par>
                          <p:cTn id="1012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5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and nesC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is an operating system designed to target limited-resource sensor network nod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0.4, 0.6 (2000-2001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0 (2002): first nesC vers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1.1 (2003): reliability improvements, many new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2.0 (2006): complete rewrite, improved design, portability, reliability and docu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and its application are implemented in nesC, a C dialect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0 (2002): Component-based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1 (2003): Concurrency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esC 1.2 (2005): Generic components, “external” typ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84C53-13ED-4041-AAD3-97CF9D39065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5400" y="1176120"/>
            <a:ext cx="8515080" cy="1533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of clients known at compile-time (see unique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1" name=""/>
          <p:cNvSpPr/>
          <p:nvPr/>
        </p:nvSpPr>
        <p:spPr>
          <a:xfrm>
            <a:off x="4297320" y="5364000"/>
            <a:ext cx="1577880" cy="55116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2" name=""/>
          <p:cNvSpPr/>
          <p:nvPr/>
        </p:nvSpPr>
        <p:spPr>
          <a:xfrm>
            <a:off x="1444680" y="329868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3" name=""/>
          <p:cNvSpPr/>
          <p:nvPr/>
        </p:nvSpPr>
        <p:spPr>
          <a:xfrm>
            <a:off x="6346800" y="3273480"/>
            <a:ext cx="2281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4" name=""/>
          <p:cNvSpPr/>
          <p:nvPr/>
        </p:nvSpPr>
        <p:spPr>
          <a:xfrm>
            <a:off x="4413240" y="406728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5" name=""/>
          <p:cNvSpPr/>
          <p:nvPr/>
        </p:nvSpPr>
        <p:spPr>
          <a:xfrm>
            <a:off x="3537000" y="376236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5665680" y="3778200"/>
            <a:ext cx="795600" cy="2840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7" name=""/>
          <p:cNvSpPr/>
          <p:nvPr/>
        </p:nvSpPr>
        <p:spPr>
          <a:xfrm flipH="1" flipV="1">
            <a:off x="3147840" y="382248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5665680" y="3806640"/>
            <a:ext cx="1424160" cy="5252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69" name=""/>
          <p:cNvSpPr/>
          <p:nvPr/>
        </p:nvSpPr>
        <p:spPr>
          <a:xfrm>
            <a:off x="1754280" y="3836880"/>
            <a:ext cx="2547720" cy="17701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0" name=""/>
          <p:cNvSpPr/>
          <p:nvPr/>
        </p:nvSpPr>
        <p:spPr>
          <a:xfrm flipH="1" flipV="1">
            <a:off x="2308320" y="3822840"/>
            <a:ext cx="2008080" cy="154296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5876640" y="3807000"/>
            <a:ext cx="2547720" cy="187452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572" name="" descr=""/>
          <p:cNvPicPr/>
          <p:nvPr/>
        </p:nvPicPr>
        <p:blipFill>
          <a:blip r:embed="rId1"/>
          <a:stretch/>
        </p:blipFill>
        <p:spPr>
          <a:xfrm>
            <a:off x="6667560" y="5178600"/>
            <a:ext cx="858600" cy="91260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2817720" y="3807000"/>
            <a:ext cx="1528920" cy="73476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0E42-73FA-4944-ABD2-85A7A25152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9" dur="indefinite" restart="never" nodeType="tmRoot">
          <p:childTnLst>
            <p:seq>
              <p:cTn id="1020" dur="indefinite" nodeType="mainSeq">
                <p:childTnLst>
                  <p:par>
                    <p:cTn id="1021" fill="hold">
                      <p:stCondLst>
                        <p:cond delay="indefinite"/>
                      </p:stCondLst>
                      <p:childTnLst>
                        <p:par>
                          <p:cTn id="1022" fill="hold">
                            <p:stCondLst>
                              <p:cond delay="0"/>
                            </p:stCondLst>
                            <p:childTnLst>
                              <p:par>
                                <p:cTn id="10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5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6" fill="hold">
                      <p:stCondLst>
                        <p:cond delay="indefinite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32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4" fill="hold">
                      <p:stCondLst>
                        <p:cond delay="indefinite"/>
                      </p:stCondLst>
                      <p:childTnLst>
                        <p:par>
                          <p:cTn id="1035" fill="hold">
                            <p:stCondLst>
                              <p:cond delay="0"/>
                            </p:stCondLst>
                            <p:childTnLst>
                              <p:par>
                                <p:cTn id="10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2" fill="hold">
                      <p:stCondLst>
                        <p:cond delay="indefinite"/>
                      </p:stCondLst>
                      <p:childTnLst>
                        <p:par>
                          <p:cTn id="1043" fill="hold">
                            <p:stCondLst>
                              <p:cond delay="0"/>
                            </p:stCondLst>
                            <p:childTnLst>
                              <p:par>
                                <p:cTn id="10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6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7" fill="hold">
                      <p:stCondLst>
                        <p:cond delay="indefinite"/>
                      </p:stCondLst>
                      <p:childTnLst>
                        <p:par>
                          <p:cTn id="1048" fill="hold">
                            <p:stCondLst>
                              <p:cond delay="0"/>
                            </p:stCondLst>
                            <p:childTnLst>
                              <p:par>
                                <p:cTn id="10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3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61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5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fill="hold">
                      <p:stCondLst>
                        <p:cond delay="indefinite"/>
                      </p:stCondLst>
                      <p:childTnLst>
                        <p:par>
                          <p:cTn id="1067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0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2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5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78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0" fill="hold">
                      <p:stCondLst>
                        <p:cond delay="indefinite"/>
                      </p:stCondLst>
                      <p:childTnLst>
                        <p:par>
                          <p:cTn id="1081" fill="hold">
                            <p:stCondLst>
                              <p:cond delay="0"/>
                            </p:stCondLst>
                            <p:childTnLst>
                              <p:par>
                                <p:cTn id="10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4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(continued)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23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ra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hared resour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me number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N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f clients known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rbit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manages resource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perti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uaranteed availabil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nknown lat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mmediateRequest: get it </a:t>
            </a:r>
            <a:r>
              <a:rPr b="1" lang="en-GB" sz="1600" spc="-1" strike="noStrike">
                <a:solidFill>
                  <a:srgbClr val="0860a8"/>
                </a:solidFill>
                <a:latin typeface="Verdana"/>
              </a:rPr>
              <a:t>now</a:t>
            </a: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, if availabl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ampl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, sensing, bus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3A5F2-6661-4ADB-86DD-972D8A029891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module AdcP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ff0000"/>
                </a:solidFill>
                <a:latin typeface="Verdana"/>
              </a:rPr>
              <a:t>us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command error_t Read.read[uint8_t c]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return call Resource.request[c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event void Resource.granted[c]() { client = c;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ask void acquiredData(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78" name=""/>
          <p:cNvSpPr/>
          <p:nvPr/>
        </p:nvSpPr>
        <p:spPr>
          <a:xfrm>
            <a:off x="3173400" y="3992400"/>
            <a:ext cx="5775480" cy="197028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face Resource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immediateRequest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nt void granted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sync command error_t release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79A28-4EC2-4DD0-BA26-B99C10B8B58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8" dur="indefinite" restart="never" nodeType="tmRoot">
          <p:childTnLst>
            <p:seq>
              <p:cTn id="1089" dur="indefinite" nodeType="mainSeq">
                <p:childTnLst>
                  <p:par>
                    <p:cTn id="1090" fill="hold">
                      <p:stCondLst>
                        <p:cond delay="indefinite"/>
                      </p:stCondLst>
                      <p:childTnLst>
                        <p:par>
                          <p:cTn id="1091" fill="hold">
                            <p:stCondLst>
                              <p:cond delay="0"/>
                            </p:stCondLst>
                            <p:childTnLst>
                              <p:par>
                                <p:cTn id="1092" nodeType="clickEffect" fill="hold" presetClass="path" presetID="64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77778E-006 4.50867E-006 L 0.00173 -0.53157 E">
                                      <p:cBhvr>
                                        <p:cTn id="1093" dur="2000" fill="hold"/>
                                        <p:tgtEl>
                                          <p:spTgt spid="57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4" fill="hold">
                      <p:stCondLst>
                        <p:cond delay="indefinite"/>
                      </p:stCondLst>
                      <p:childTnLst>
                        <p:par>
                          <p:cTn id="1095" fill="hold">
                            <p:stCondLst>
                              <p:cond delay="0"/>
                            </p:stCondLst>
                            <p:childTnLst>
                              <p:par>
                                <p:cTn id="1096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97" dur="2000" fill="hold"/>
                                        <p:tgtEl>
                                          <p:spTgt spid="57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1" dur="2000" fill="hold"/>
                                        <p:tgtEl>
                                          <p:spTgt spid="57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fill="hold">
                      <p:stCondLst>
                        <p:cond delay="indefinite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05" dur="2000" fill="hold"/>
                                        <p:tgtEl>
                                          <p:spTgt spid="577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management for A/D convers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figuration AdcC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interface Read&lt;uint16_t&gt;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s AdcP,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new RoundRobinArbiterC(“adc.resource”) as Arbiter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ad = AdcP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AdcP.Resource -&gt; Arbiter.Resource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1" name=""/>
          <p:cNvSpPr/>
          <p:nvPr/>
        </p:nvSpPr>
        <p:spPr>
          <a:xfrm>
            <a:off x="880920" y="3587760"/>
            <a:ext cx="7859880" cy="241920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nfiguration RoundRobinArbiterC(char resourceName[]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provides interface Resource[uint8_t client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 uniqueCount(resourceName)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F8C72-84CE-4820-9BFC-D40D8043BDB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6" dur="indefinite" restart="never" nodeType="tmRoot">
          <p:childTnLst>
            <p:seq>
              <p:cTn id="1107" dur="indefinite" nodeType="mainSeq">
                <p:childTnLst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3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4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5" name=""/>
          <p:cNvSpPr/>
          <p:nvPr/>
        </p:nvSpPr>
        <p:spPr>
          <a:xfrm>
            <a:off x="5276880" y="5126040"/>
            <a:ext cx="2222280" cy="5094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6" name=""/>
          <p:cNvSpPr/>
          <p:nvPr/>
        </p:nvSpPr>
        <p:spPr>
          <a:xfrm>
            <a:off x="5438880" y="3822840"/>
            <a:ext cx="18381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/D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7" name=""/>
          <p:cNvSpPr/>
          <p:nvPr/>
        </p:nvSpPr>
        <p:spPr>
          <a:xfrm>
            <a:off x="4751280" y="2682720"/>
            <a:ext cx="1530360" cy="106524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8" name=""/>
          <p:cNvSpPr/>
          <p:nvPr/>
        </p:nvSpPr>
        <p:spPr>
          <a:xfrm>
            <a:off x="5530680" y="4362480"/>
            <a:ext cx="0" cy="73332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89" name=""/>
          <p:cNvSpPr/>
          <p:nvPr/>
        </p:nvSpPr>
        <p:spPr>
          <a:xfrm>
            <a:off x="6326280" y="4346640"/>
            <a:ext cx="0" cy="73512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0" name=""/>
          <p:cNvSpPr/>
          <p:nvPr/>
        </p:nvSpPr>
        <p:spPr>
          <a:xfrm flipV="1">
            <a:off x="6505560" y="4346280"/>
            <a:ext cx="0" cy="74916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1" name=""/>
          <p:cNvSpPr/>
          <p:nvPr/>
        </p:nvSpPr>
        <p:spPr>
          <a:xfrm flipH="1" flipV="1">
            <a:off x="4946400" y="2682360"/>
            <a:ext cx="1617480" cy="109548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210960" y="3661920"/>
            <a:ext cx="4602240" cy="204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/D service is </a:t>
            </a:r>
            <a:r>
              <a:rPr b="0" i="1" lang="en-US" sz="1800" spc="-1" strike="noStrike">
                <a:solidFill>
                  <a:srgbClr val="0860a8"/>
                </a:solidFill>
                <a:latin typeface="Verdana"/>
              </a:rPr>
              <a:t>internally manag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ervice has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n build on resource management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DD297-689F-4B43-9139-DF862CDFF610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2" dur="indefinite" restart="never" nodeType="tmRoot">
          <p:childTnLst>
            <p:seq>
              <p:cTn id="1113" dur="indefinite" nodeType="mainSeq">
                <p:childTnLst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8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12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2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12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6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2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33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8" fill="hold">
                            <p:stCondLst>
                              <p:cond delay="500"/>
                            </p:stCondLst>
                            <p:childTnLst>
                              <p:par>
                                <p:cTn id="1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1" dur="1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43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44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45" dur="10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6" fill="hold">
                            <p:stCondLst>
                              <p:cond delay="2500"/>
                            </p:stCondLst>
                            <p:childTnLst>
                              <p:par>
                                <p:cTn id="114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48" dur="2000"/>
                                        <p:tgtEl>
                                          <p:spTgt spid="5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4" name=""/>
          <p:cNvSpPr/>
          <p:nvPr/>
        </p:nvSpPr>
        <p:spPr>
          <a:xfrm>
            <a:off x="831960" y="5033880"/>
            <a:ext cx="244008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hardwar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5" name=""/>
          <p:cNvSpPr/>
          <p:nvPr/>
        </p:nvSpPr>
        <p:spPr>
          <a:xfrm>
            <a:off x="964800" y="3807000"/>
            <a:ext cx="205632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radio service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6" name=""/>
          <p:cNvSpPr/>
          <p:nvPr/>
        </p:nvSpPr>
        <p:spPr>
          <a:xfrm>
            <a:off x="2532960" y="2157480"/>
            <a:ext cx="25272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user application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7" name=""/>
          <p:cNvSpPr/>
          <p:nvPr/>
        </p:nvSpPr>
        <p:spPr>
          <a:xfrm>
            <a:off x="1049400" y="4332240"/>
            <a:ext cx="0" cy="6904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1064880" y="2684520"/>
            <a:ext cx="1468440" cy="109368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599" name=""/>
          <p:cNvSpPr/>
          <p:nvPr/>
        </p:nvSpPr>
        <p:spPr>
          <a:xfrm>
            <a:off x="1604880" y="4362480"/>
            <a:ext cx="0" cy="66024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1754280" y="4332240"/>
            <a:ext cx="0" cy="690480"/>
          </a:xfrm>
          <a:prstGeom prst="line">
            <a:avLst/>
          </a:prstGeom>
          <a:ln w="50760">
            <a:solidFill>
              <a:srgbClr val="0860a8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1" name=""/>
          <p:cNvSpPr/>
          <p:nvPr/>
        </p:nvSpPr>
        <p:spPr>
          <a:xfrm flipV="1">
            <a:off x="2023920" y="2668680"/>
            <a:ext cx="1200240" cy="1095120"/>
          </a:xfrm>
          <a:prstGeom prst="line">
            <a:avLst/>
          </a:prstGeom>
          <a:ln w="50760">
            <a:solidFill>
              <a:srgbClr val="00ff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2" name=""/>
          <p:cNvSpPr/>
          <p:nvPr/>
        </p:nvSpPr>
        <p:spPr>
          <a:xfrm>
            <a:off x="2443680" y="2990880"/>
            <a:ext cx="10875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message</a:t>
            </a:r>
            <a:br>
              <a:rPr sz="1600"/>
            </a:br>
            <a:r>
              <a:rPr b="0" lang="en-US" sz="1600" spc="-1" strike="noStrike">
                <a:solidFill>
                  <a:srgbClr val="00ff00"/>
                </a:solidFill>
                <a:latin typeface="Verdana"/>
              </a:rPr>
              <a:t>recep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3" name=""/>
          <p:cNvSpPr/>
          <p:nvPr/>
        </p:nvSpPr>
        <p:spPr>
          <a:xfrm>
            <a:off x="455760" y="1176480"/>
            <a:ext cx="8515080" cy="93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rmAutofit/>
          </a:bodyPr>
          <a:p>
            <a:pPr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oal: set hardware to lowest-power state consistent with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3430080" y="3447720"/>
            <a:ext cx="5502600" cy="227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SMA radio is </a:t>
            </a:r>
            <a:r>
              <a:rPr b="0" i="1" lang="en-US" sz="1600" spc="-1" strike="noStrike">
                <a:solidFill>
                  <a:srgbClr val="0860a8"/>
                </a:solidFill>
                <a:latin typeface="Verdana"/>
              </a:rPr>
              <a:t>externally manag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t enough information to set hardware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anagement from application, or higher-level service, e.g., neighbourhood message scheduling service (as we saw earlier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0978B-5D43-480B-8DCD-A3E3E5656C5D}" type="slidenum">
              <a:t>7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0" dur="indefinite" restart="never" nodeType="tmRoot">
          <p:childTnLst>
            <p:seq>
              <p:cTn id="1161" dur="indefinite" nodeType="mainSeq">
                <p:childTnLst>
                  <p:par>
                    <p:cTn id="1162" fill="hold">
                      <p:stCondLst>
                        <p:cond delay="indefinite"/>
                      </p:stCondLst>
                      <p:childTnLst>
                        <p:par>
                          <p:cTn id="1163" fill="hold">
                            <p:stCondLst>
                              <p:cond delay="0"/>
                            </p:stCondLst>
                            <p:childTnLst>
                              <p:par>
                                <p:cTn id="1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7" fill="hold">
                            <p:stCondLst>
                              <p:cond delay="500"/>
                            </p:stCondLst>
                            <p:childTnLst>
                              <p:par>
                                <p:cTn id="1168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69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0" dur="10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5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177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178" dur="2000" fill="hold"/>
                                        <p:tgtEl>
                                          <p:spTgt spid="59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9" fill="hold">
                      <p:stCondLst>
                        <p:cond delay="indefinite"/>
                      </p:stCondLst>
                      <p:childTnLst>
                        <p:par>
                          <p:cTn id="1180" fill="hold">
                            <p:stCondLst>
                              <p:cond delay="0"/>
                            </p:stCondLst>
                            <p:childTnLst>
                              <p:par>
                                <p:cTn id="11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Power Management with Arbiter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6" name=""/>
          <p:cNvSpPr/>
          <p:nvPr/>
        </p:nvSpPr>
        <p:spPr>
          <a:xfrm>
            <a:off x="3862440" y="5035680"/>
            <a:ext cx="1577880" cy="550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DC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7" name=""/>
          <p:cNvSpPr/>
          <p:nvPr/>
        </p:nvSpPr>
        <p:spPr>
          <a:xfrm>
            <a:off x="987480" y="1281240"/>
            <a:ext cx="199980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Light senso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8" name=""/>
          <p:cNvSpPr/>
          <p:nvPr/>
        </p:nvSpPr>
        <p:spPr>
          <a:xfrm>
            <a:off x="5853240" y="1279440"/>
            <a:ext cx="228096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CSMA radio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09" name=""/>
          <p:cNvSpPr/>
          <p:nvPr/>
        </p:nvSpPr>
        <p:spPr>
          <a:xfrm>
            <a:off x="3919320" y="2073240"/>
            <a:ext cx="12272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Arbit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3043080" y="1768320"/>
            <a:ext cx="825480" cy="3603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1" name=""/>
          <p:cNvSpPr/>
          <p:nvPr/>
        </p:nvSpPr>
        <p:spPr>
          <a:xfrm flipH="1" flipV="1">
            <a:off x="2654280" y="1828440"/>
            <a:ext cx="1168560" cy="554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2" name=""/>
          <p:cNvSpPr/>
          <p:nvPr/>
        </p:nvSpPr>
        <p:spPr>
          <a:xfrm>
            <a:off x="1260360" y="1843200"/>
            <a:ext cx="2594160" cy="3614760"/>
          </a:xfrm>
          <a:prstGeom prst="line">
            <a:avLst/>
          </a:prstGeom>
          <a:ln w="507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3" name=""/>
          <p:cNvSpPr/>
          <p:nvPr/>
        </p:nvSpPr>
        <p:spPr>
          <a:xfrm flipH="1" flipV="1">
            <a:off x="1498320" y="1784160"/>
            <a:ext cx="2398680" cy="3416040"/>
          </a:xfrm>
          <a:prstGeom prst="line">
            <a:avLst/>
          </a:prstGeom>
          <a:ln w="5076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pic>
        <p:nvPicPr>
          <p:cNvPr id="614" name="" descr=""/>
          <p:cNvPicPr/>
          <p:nvPr/>
        </p:nvPicPr>
        <p:blipFill>
          <a:blip r:embed="rId1"/>
          <a:stretch/>
        </p:blipFill>
        <p:spPr>
          <a:xfrm>
            <a:off x="6697800" y="4622760"/>
            <a:ext cx="858600" cy="912960"/>
          </a:xfrm>
          <a:prstGeom prst="rect">
            <a:avLst/>
          </a:prstGeom>
          <a:ln w="0">
            <a:noFill/>
          </a:ln>
        </p:spPr>
      </p:pic>
      <p:sp>
        <p:nvSpPr>
          <p:cNvPr id="615" name=""/>
          <p:cNvSpPr/>
          <p:nvPr/>
        </p:nvSpPr>
        <p:spPr>
          <a:xfrm>
            <a:off x="2324160" y="1812960"/>
            <a:ext cx="1528560" cy="735120"/>
          </a:xfrm>
          <a:prstGeom prst="line">
            <a:avLst/>
          </a:prstGeom>
          <a:ln w="50760">
            <a:solidFill>
              <a:srgbClr val="f5e64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6" name=""/>
          <p:cNvSpPr/>
          <p:nvPr/>
        </p:nvSpPr>
        <p:spPr>
          <a:xfrm>
            <a:off x="3420000" y="3349800"/>
            <a:ext cx="2508840" cy="509400"/>
          </a:xfrm>
          <a:prstGeom prst="roundRect">
            <a:avLst>
              <a:gd name="adj" fmla="val 16667"/>
            </a:avLst>
          </a:prstGeom>
          <a:solidFill>
            <a:srgbClr val="a6cae1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860a8"/>
                </a:solidFill>
                <a:latin typeface="Verdana"/>
              </a:rPr>
              <a:t>Power Manager</a:t>
            </a:r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7" name=""/>
          <p:cNvSpPr/>
          <p:nvPr/>
        </p:nvSpPr>
        <p:spPr>
          <a:xfrm>
            <a:off x="4211640" y="3882960"/>
            <a:ext cx="0" cy="1154160"/>
          </a:xfrm>
          <a:prstGeom prst="line">
            <a:avLst/>
          </a:prstGeom>
          <a:ln w="50760">
            <a:solidFill>
              <a:srgbClr val="aa014c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18" name=""/>
          <p:cNvSpPr/>
          <p:nvPr/>
        </p:nvSpPr>
        <p:spPr>
          <a:xfrm>
            <a:off x="4451400" y="2593800"/>
            <a:ext cx="0" cy="719280"/>
          </a:xfrm>
          <a:prstGeom prst="line">
            <a:avLst/>
          </a:prstGeom>
          <a:ln w="50760">
            <a:solidFill>
              <a:srgbClr val="0860a8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E677B-5855-48B0-B318-2C078D9E1344}" type="slidenum">
              <a:t>7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9" dur="indefinite" restart="never" nodeType="tmRoot">
          <p:childTnLst>
            <p:seq>
              <p:cTn id="1190" dur="indefinite" nodeType="mainSeq">
                <p:childTnLst>
                  <p:par>
                    <p:cTn id="1191" fill="hold">
                      <p:stCondLst>
                        <p:cond delay="indefinite"/>
                      </p:stCondLst>
                      <p:childTnLst>
                        <p:par>
                          <p:cTn id="1192" fill="hold">
                            <p:stCondLst>
                              <p:cond delay="0"/>
                            </p:stCondLst>
                            <p:childTnLst>
                              <p:par>
                                <p:cTn id="11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5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6" fill="hold">
                      <p:stCondLst>
                        <p:cond delay="indefinite"/>
                      </p:stCondLst>
                      <p:childTnLst>
                        <p:par>
                          <p:cTn id="1197" fill="hold">
                            <p:stCondLst>
                              <p:cond delay="0"/>
                            </p:stCondLst>
                            <p:childTnLst>
                              <p:par>
                                <p:cTn id="1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1" fill="hold">
                            <p:stCondLst>
                              <p:cond delay="500"/>
                            </p:stCondLst>
                            <p:childTnLst>
                              <p:par>
                                <p:cTn id="1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4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6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07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a6cae1"/>
                                      </p:to>
                                    </p:animClr>
                                    <p:set>
                                      <p:cBhvr>
                                        <p:cTn id="1208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0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1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1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6" fill="hold">
                      <p:stCondLst>
                        <p:cond delay="indefinite"/>
                      </p:stCondLst>
                      <p:childTnLst>
                        <p:par>
                          <p:cTn id="1217" fill="hold">
                            <p:stCondLst>
                              <p:cond delay="0"/>
                            </p:stCondLst>
                            <p:childTnLst>
                              <p:par>
                                <p:cTn id="1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22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4" fill="hold">
                      <p:stCondLst>
                        <p:cond delay="indefinite"/>
                      </p:stCondLst>
                      <p:childTnLst>
                        <p:par>
                          <p:cTn id="1225" fill="hold">
                            <p:stCondLst>
                              <p:cond delay="0"/>
                            </p:stCondLst>
                            <p:childTnLst>
                              <p:par>
                                <p:cTn id="12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2" fill="hold">
                      <p:stCondLst>
                        <p:cond delay="indefinite"/>
                      </p:stCondLst>
                      <p:childTnLst>
                        <p:par>
                          <p:cTn id="1233" fill="hold">
                            <p:stCondLst>
                              <p:cond delay="0"/>
                            </p:stCondLst>
                            <p:childTnLst>
                              <p:par>
                                <p:cTn id="1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6" dur="2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38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4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1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3" fill="hold">
                      <p:stCondLst>
                        <p:cond delay="indefinite"/>
                      </p:stCondLst>
                      <p:childTnLst>
                        <p:par>
                          <p:cTn id="1244" fill="hold">
                            <p:stCondLst>
                              <p:cond delay="0"/>
                            </p:stCondLst>
                            <p:childTnLst>
                              <p:par>
                                <p:cTn id="12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7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49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52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4" fill="hold">
                      <p:stCondLst>
                        <p:cond delay="indefinite"/>
                      </p:stCondLst>
                      <p:childTnLst>
                        <p:par>
                          <p:cTn id="1255" fill="hold">
                            <p:stCondLst>
                              <p:cond delay="0"/>
                            </p:stCondLst>
                            <p:childTnLst>
                              <p:par>
                                <p:cTn id="125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58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9" fill="hold">
                            <p:stCondLst>
                              <p:cond delay="500"/>
                            </p:stCondLst>
                            <p:childTnLst>
                              <p:par>
                                <p:cTn id="126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62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6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1265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6" fill="hold">
                      <p:stCondLst>
                        <p:cond delay="indefinite"/>
                      </p:stCondLst>
                      <p:childTnLst>
                        <p:par>
                          <p:cTn id="1267" fill="hold">
                            <p:stCondLst>
                              <p:cond delay="0"/>
                            </p:stCondLst>
                            <p:childTnLst>
                              <p:par>
                                <p:cTn id="126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69" dur="2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2" dur="2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275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source &amp; Power Management Summar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hree kinds of resources, all have guaranteed availabilit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edic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single client, no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ex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rbitra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unknown lat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usable power manager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virtuali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multiple clients, no latency, runtime overhea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typically internal power managemen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8F09B-A3DB-4870-8BD3-36B6CACA339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ow-level code and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st TinyOS code can live in tasks, and not worry too much about concurrency issues. For instance, in AdcP, the lin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Resource.release[client](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ignal Read.readDone[client](SUCCESS, val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 not need to worry about requests coming in between the release and readDone (and changing client), a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sks do not interrupt each other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ands and events that are called from interrupt handlers </a:t>
            </a:r>
            <a:r>
              <a:rPr b="1" lang="en-GB" sz="1800" spc="-1" strike="noStrike">
                <a:solidFill>
                  <a:srgbClr val="0860a8"/>
                </a:solidFill>
                <a:latin typeface="Verdana"/>
              </a:rPr>
              <a:t>must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be marked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some code has to run in interrupt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it is very timing sensitiv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cause the microcontroller signals events via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4B769-D93C-41B0-A8F7-4ED6675E6C07}" type="slidenum">
              <a:t>7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support for concurrency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nesC does three things to simplify dealing with interrupt-related concurrenc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quires the use of </a:t>
            </a: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on commands and events call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uns a simple data-race detector to identify variables accessed from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rovides an atomic statement to guarantee the atomic execution of one or more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FFFC9-93F1-4E68-A74F-8A73DFBDECDC}" type="slidenum">
              <a:t>7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TinyOS in a nut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30200" y="976320"/>
            <a:ext cx="8515440" cy="500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ystem runs a single appl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OS services can be tailored to the application’s nee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se OS services includ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mers, radio, serial port, A/D conversion, sensing, storage, multihop collection and dissemination, …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pplication and services are built a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 set of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interacting components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(as opposed to thread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sing a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strictly non-blocking execution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vent-driven execution, most service requests are split-phas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mplementation based on a set of OS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tasks, atomic with respect to each other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;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ource sharing and virtualisation, 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power managemen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C4A29-1233-48B6-AB1C-FD67E228372F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urrency exampl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  //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         // </a:t>
            </a:r>
            <a:r>
              <a:rPr b="1" lang="en-US" sz="1800" spc="-1" strike="noStrike">
                <a:solidFill>
                  <a:srgbClr val="ff0000"/>
                </a:solidFill>
                <a:latin typeface="Wingdings"/>
                <a:ea typeface="Wingdings"/>
              </a:rPr>
              <a:t></a:t>
            </a:r>
            <a:r>
              <a:rPr b="0" lang="en-GB" sz="1800" spc="-1" strike="noStrike">
                <a:solidFill>
                  <a:srgbClr val="ff0000"/>
                </a:solidFill>
                <a:latin typeface="Verdana"/>
              </a:rPr>
              <a:t> concurrent access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occurs during the if, and the interrupt handler also calls Queue.enqueue then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 available slot may be ignored (probably not a problem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same slot may be given twice (oops!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an interrupt happens during the 2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nd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ncurrent access (write)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interrupt handler’s write of resQ will probably be lo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0F8CB-95A7-4D26-9F1A-502181A3E395}" type="slidenum">
              <a:t>8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7" dur="indefinite" restart="never" nodeType="tmRoot">
          <p:childTnLst>
            <p:seq>
              <p:cTn id="1278" dur="indefinite" nodeType="mainSeq">
                <p:childTnLst>
                  <p:par>
                    <p:cTn id="1279" fill="hold">
                      <p:stCondLst>
                        <p:cond delay="indefinite"/>
                      </p:stCondLst>
                      <p:childTnLst>
                        <p:par>
                          <p:cTn id="1280" fill="hold">
                            <p:stCondLst>
                              <p:cond delay="0"/>
                            </p:stCondLst>
                            <p:childTnLst>
                              <p:par>
                                <p:cTn id="1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7" fill="hold">
                      <p:stCondLst>
                        <p:cond delay="indefinite"/>
                      </p:stCondLst>
                      <p:childTnLst>
                        <p:par>
                          <p:cTn id="1288" fill="hold">
                            <p:stCondLst>
                              <p:cond delay="0"/>
                            </p:stCondLst>
                            <p:childTnLst>
                              <p:par>
                                <p:cTn id="1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Detec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Every concurrent state access is a potential race condi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f object O is accessed in a function reachable from an interrupt entry point, then all accesses to O are potential race condi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concurrent state accesses must occur in </a:t>
            </a:r>
            <a:r>
              <a:rPr b="1" lang="en-US" sz="1800" spc="-1" strike="noStrike">
                <a:solidFill>
                  <a:srgbClr val="0860a8"/>
                </a:solidFill>
                <a:latin typeface="Courier New"/>
              </a:rPr>
              <a:t>atomic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statem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current state access detection is straightforward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all graph fully specified by configur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nterrupt entry points are know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model is simple (variables onl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0075E-F566-448B-917E-667D50AAAC6C}" type="slidenum">
              <a:t>8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3" dur="indefinite" restart="never" nodeType="tmRoot">
          <p:childTnLst>
            <p:seq>
              <p:cTn id="1294" dur="indefinite" nodeType="mainSeq">
                <p:childTnLst>
                  <p:par>
                    <p:cTn id="1295" fill="hold">
                      <p:stCondLst>
                        <p:cond delay="indefinite"/>
                      </p:stCondLst>
                      <p:childTnLst>
                        <p:par>
                          <p:cTn id="1296" fill="hold">
                            <p:stCondLst>
                              <p:cond delay="0"/>
                            </p:stCondLst>
                            <p:childTnLst>
                              <p:par>
                                <p:cTn id="1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9" fill="hold">
                      <p:stCondLst>
                        <p:cond delay="indefinite"/>
                      </p:stCondLst>
                      <p:childTnLst>
                        <p:par>
                          <p:cTn id="1300" fill="hold">
                            <p:stCondLst>
                              <p:cond delay="0"/>
                            </p:stCondLst>
                            <p:childTnLst>
                              <p:par>
                                <p:cTn id="1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7" fill="hold">
                      <p:stCondLst>
                        <p:cond delay="indefinite"/>
                      </p:stCondLst>
                      <p:childTnLst>
                        <p:par>
                          <p:cTn id="1308" fill="hold">
                            <p:stCondLst>
                              <p:cond delay="0"/>
                            </p:stCondLst>
                            <p:childTnLst>
                              <p:par>
                                <p:cTn id="1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Data race fixed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uint8_t resQ[SIZE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syn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command error_t Queue.enqueue(uint8_t id)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1" lang="en-GB" sz="1800" spc="-1" strike="noStrike">
                <a:solidFill>
                  <a:srgbClr val="ff0000"/>
                </a:solidFill>
                <a:latin typeface="Verdana"/>
              </a:rPr>
              <a:t>atomic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f (!</a:t>
            </a:r>
            <a:r>
              <a:rPr b="0" lang="fr-FR" sz="1800" spc="-1" strike="noStrike">
                <a:solidFill>
                  <a:srgbClr val="0860a8"/>
                </a:solidFill>
                <a:latin typeface="Verdana"/>
              </a:rPr>
              <a:t>(resQ[id / 8] &amp; (1 &lt;&lt; (id % 8)))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sQ[id / 8] |=  1 &lt;&lt; (id % 8)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SUCCESS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turn EBUSY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tomic execution ensured by simply disabling interrupts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ong atomic sections can cause problems!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mit maximum sampling frequency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cause lost packe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68BC0-2185-4935-9F50-1B9DAE4BDF16}" type="slidenum">
              <a:t>8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Concluding Remark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Reflections on TinyO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inyOS statu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What we didn’t see, and 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ther sensor network operating syste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08CE0-F86A-46D2-87CA-FEC0BAA613C6}" type="slidenum">
              <a:t>8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has no thread suppor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examples earlier show execution of tasks, interrupt handl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is execution crosses component boundari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ach component encompasses activities initiated in different places, these could be viewed as independent “threads”. In AntiTheftC we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booted event initiated in system setup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imer event initiated in timer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settings-changed event initiated in dissemination subsystem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light and acceleration completion events, ultimately caused by the requests from with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the movement-detection task, initiated in AntiTheftC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ever, it’s not always clear exactly what a “thread” of control is. E.g.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s the movement-detection task part of the “thread” initiated in response to the periodic timer expiration in the timer subsystem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6CDD-AD81-433A-ADFF-EDBCCFA604FC}" type="slidenum">
              <a:t>8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Components vs Threa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more productive view is to consider the system as a set of interacting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intains the information that represents it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makes requests for actions from other compon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 component responds to commands and events from other components, representing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Requests (from other components) for the initiation of a new action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please sample the light sensor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Completion of requests the component made of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message queued for sending to the root of the collection tree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vents representing asynchronous actions from the environment or other compon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3" marL="725400" indent="-152280">
              <a:spcBef>
                <a:spcPts val="400"/>
              </a:spcBef>
              <a:buClr>
                <a:srgbClr val="0860a8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860a8"/>
                </a:solidFill>
                <a:latin typeface="Verdana"/>
              </a:rPr>
              <a:t>Ex: system booted, timer expired, new dissemination value received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Tracking the details of the control flow across components is not necessary within this mindset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704AE-4636-4D9B-8D31-E0892476D36D}" type="slidenum">
              <a:t>8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ic Allocation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/nesC use static rather than dynamic allocation. Why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nsure that resources are available for the worst cas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ex: each message source gets one queue slot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implify debugging (by removing a major source of bug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 where did that static allocation happen?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ntiTheftC allocated some variables for message buffers, acceleration sampl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stantiation of generic components implicitly allocates stat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instantiating a module creates a new set of variable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  <a:p>
            <a:pPr lvl="2" marL="571680" indent="-324000">
              <a:spcBef>
                <a:spcPts val="400"/>
              </a:spcBef>
              <a:buClr>
                <a:srgbClr val="0860a8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860a8"/>
                </a:solidFill>
                <a:latin typeface="Verdana"/>
              </a:rPr>
              <a:t>unique/uniqueCount allow compile-time sizing of arrays to match the number of clients</a:t>
            </a:r>
            <a:endParaRPr b="0" lang="en-US" sz="1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39" name=""/>
          <p:cNvSpPr/>
          <p:nvPr/>
        </p:nvSpPr>
        <p:spPr>
          <a:xfrm>
            <a:off x="3143160" y="560520"/>
            <a:ext cx="577548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ntiTheftC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essage_t alertMsg, theftMsg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16_t accelSamples[SAMPLES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0" name=""/>
          <p:cNvSpPr/>
          <p:nvPr/>
        </p:nvSpPr>
        <p:spPr>
          <a:xfrm>
            <a:off x="309600" y="735120"/>
            <a:ext cx="7245360" cy="1969920"/>
          </a:xfrm>
          <a:prstGeom prst="rect">
            <a:avLst/>
          </a:prstGeom>
          <a:solidFill>
            <a:srgbClr val="f5e647"/>
          </a:solidFill>
          <a:ln w="50760">
            <a:solidFill>
              <a:srgbClr val="0860a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odule AdcP { ... 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implementation {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client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uint8_t someState[uniqueCount(“adc.resource”)];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 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.. someState[client] ...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}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91B-0EF6-43EF-953C-923684CA1328}" type="slidenum">
              <a:t>8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7" dur="indefinite" restart="never" nodeType="tmRoot">
          <p:childTnLst>
            <p:seq>
              <p:cTn id="1318" dur="indefinite" nodeType="mainSeq">
                <p:childTnLst>
                  <p:par>
                    <p:cTn id="1319" fill="hold">
                      <p:stCondLst>
                        <p:cond delay="indefinite"/>
                      </p:stCondLst>
                      <p:childTnLst>
                        <p:par>
                          <p:cTn id="1320" fill="hold">
                            <p:stCondLst>
                              <p:cond delay="0"/>
                            </p:stCondLst>
                            <p:childTnLst>
                              <p:par>
                                <p:cTn id="1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3" fill="hold">
                      <p:stCondLst>
                        <p:cond delay="indefinite"/>
                      </p:stCondLst>
                      <p:childTnLst>
                        <p:par>
                          <p:cTn id="1324" fill="hold">
                            <p:stCondLst>
                              <p:cond delay="0"/>
                            </p:stCondLst>
                            <p:childTnLst>
                              <p:par>
                                <p:cTn id="1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9" fill="hold">
                      <p:stCondLst>
                        <p:cond delay="indefinite"/>
                      </p:stCondLst>
                      <p:childTnLst>
                        <p:par>
                          <p:cTn id="1330" fill="hold">
                            <p:stCondLst>
                              <p:cond delay="0"/>
                            </p:stCondLst>
                            <p:childTnLst>
                              <p:par>
                                <p:cTn id="1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TinyOS Goals Revisited 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Operate with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single-stack exec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llow high concurrenc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execution model allows direct reaction to even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y execution contexts in limited resour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Adapt to hardware evol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onent, execution model allow hardware / software substitu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wide range of applic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ailoring OS services to application needs 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Be robus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limited component interactions, stat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860a8"/>
                </a:solidFill>
                <a:latin typeface="Verdana"/>
              </a:rPr>
              <a:t>Support a diverse set of platform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3720" indent="-242280">
              <a:lnSpc>
                <a:spcPct val="90000"/>
              </a:lnSpc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OS services should reflect portable servi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B61A9-9705-4E11-97CD-D34FE25EFA2C}" type="slidenum">
              <a:t>8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9" dur="indefinite" restart="never" nodeType="tmRoot">
          <p:childTnLst>
            <p:seq>
              <p:cTn id="1340" dur="indefinite" nodeType="mainSeq">
                <p:childTnLst>
                  <p:par>
                    <p:cTn id="1341" fill="hold">
                      <p:stCondLst>
                        <p:cond delay="indefinite"/>
                      </p:stCondLst>
                      <p:childTnLst>
                        <p:par>
                          <p:cTn id="1342" fill="hold">
                            <p:stCondLst>
                              <p:cond delay="0"/>
                            </p:stCondLst>
                            <p:childTnLst>
                              <p:par>
                                <p:cTn id="1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7" fill="hold">
                      <p:stCondLst>
                        <p:cond delay="indefinite"/>
                      </p:stCondLst>
                      <p:childTnLst>
                        <p:par>
                          <p:cTn id="1348" fill="hold">
                            <p:stCondLst>
                              <p:cond delay="0"/>
                            </p:stCondLst>
                            <p:childTnLst>
                              <p:par>
                                <p:cTn id="1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5" fill="hold">
                      <p:stCondLst>
                        <p:cond delay="indefinite"/>
                      </p:stCondLst>
                      <p:childTnLst>
                        <p:par>
                          <p:cTn id="1356" fill="hold">
                            <p:stCondLst>
                              <p:cond delay="0"/>
                            </p:stCondLst>
                            <p:childTnLst>
                              <p:par>
                                <p:cTn id="1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1" fill="hold">
                      <p:stCondLst>
                        <p:cond delay="indefinite"/>
                      </p:stCondLst>
                      <p:childTnLst>
                        <p:par>
                          <p:cTn id="1362" fill="hold">
                            <p:stCondLst>
                              <p:cond delay="0"/>
                            </p:stCondLst>
                            <p:childTnLst>
                              <p:par>
                                <p:cTn id="1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6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7" fill="hold">
                      <p:stCondLst>
                        <p:cond delay="indefinite"/>
                      </p:stCondLst>
                      <p:childTnLst>
                        <p:par>
                          <p:cTn id="1368" fill="hold">
                            <p:stCondLst>
                              <p:cond delay="0"/>
                            </p:stCondLst>
                            <p:childTnLst>
                              <p:par>
                                <p:cTn id="1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3" fill="hold">
                      <p:stCondLst>
                        <p:cond delay="indefinite"/>
                      </p:stCondLst>
                      <p:childTnLst>
                        <p:par>
                          <p:cTn id="1374" fill="hold">
                            <p:stCondLst>
                              <p:cond delay="0"/>
                            </p:stCondLst>
                            <p:childTnLst>
                              <p:par>
                                <p:cTn id="13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Reflection – Statu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inyOS 2.0 released in November 2006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5 “TinyOS Enhancement Proposals” describing TinyOS stru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114k lines of code in TinyOS core (in CVS today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rvices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pleted: booting, scheduling, timer, A/D conversion, I</a:t>
            </a:r>
            <a:r>
              <a:rPr b="0" lang="en-GB" sz="1800" spc="-1" strike="noStrike" baseline="30000">
                <a:solidFill>
                  <a:srgbClr val="0860a8"/>
                </a:solidFill>
                <a:latin typeface="Verdana"/>
              </a:rPr>
              <a:t>2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 bus, radio, serial port, storage, multihop collection and dissemination, telosb sensors, simple mica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progress: over-the-air reprogramming, more senso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in limbo: security, time synchronis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latforms: mica family, telos, eyes, tinynode, intel mote 2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2.0.1 release planned for IPSN conferenc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General API cleanup (based on TEP finalisation), bug fix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A88DE-18C9-4BAA-A0EC-A766D16EEE79}" type="slidenum">
              <a:t>8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0860a8"/>
                </a:solidFill>
                <a:latin typeface="Verdana"/>
              </a:rPr>
              <a:t>Other OSes for Mote-class Device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OS  https://projects.nesl.ucla.edu/public/sos-2x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oadable modules and dynamic memory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also event-drive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ntiki  http://www.sics.se/contiki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lightweight TCP/IP implementa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optional preemptive thread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antis  http://mantis.cs.colorado.edu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-based, with conventional thread-based programming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maphores+IPC for inter-thread communi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DD5F-518C-4288-9B3E-4CB83E4F7862}" type="slidenum">
              <a:t>8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nesC in a seashell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826920"/>
            <a:ext cx="8686800" cy="563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 dialec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Component bas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all interaction via interfac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connections (“wiring”) specified at compile-tim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generic components, interfaces for code reuse, simpler 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“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External” type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simplify interoperable network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Reduced expressivity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dynamic allocation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no function pointer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Supports TinyOS’s concurrency model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must </a:t>
            </a: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declare code that can run in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ff0000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Verdana"/>
              </a:rPr>
              <a:t>atomic statements</a:t>
            </a: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 to deal with data accessed by interrupt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860a8"/>
                </a:solidFill>
                <a:latin typeface="Verdana"/>
              </a:rPr>
              <a:t>data race detection to detect (some) concurrency bug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BE644-E5F8-4290-A547-CE515F9A1A7D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4931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What we didn’t see, Where to find out more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e didn’t se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build system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ow to get code onto mote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3-level hardware abstraction architectu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torage (flash) abstraction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here to find out mor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www.tinyos.net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TinyOS Enhancement Proposals (TEPs)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The web tutorial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Phil Levis’s nesC/TinyOS programming manual, available from</a:t>
            </a:r>
            <a:br>
              <a:rPr sz="1800"/>
            </a:b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http://csl.stanford.edu/~pal/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B97B5-16FC-4FE7-ACDB-C78D42FEC9AF}" type="slidenum">
              <a:t>9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5760" y="272520"/>
            <a:ext cx="8237520" cy="692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60a8"/>
                </a:solidFill>
                <a:latin typeface="Verdana"/>
              </a:rPr>
              <a:t>Last Words</a:t>
            </a:r>
            <a:endParaRPr b="1" lang="en-US" sz="26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650" name="PlaceHolder 2"/>
          <p:cNvSpPr>
            <a:spLocks noGrp="1"/>
          </p:cNvSpPr>
          <p:nvPr>
            <p:ph/>
          </p:nvPr>
        </p:nvSpPr>
        <p:spPr>
          <a:xfrm>
            <a:off x="455400" y="1176480"/>
            <a:ext cx="8515080" cy="4827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Work In Progres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sensorboards,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community feedback on design and TEPs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Remains to be done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finish system services, in particular network reprogramming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ut, compared to TinyOS 1.1, TinyOS 2.0 is already: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esign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better documented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reli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-244800">
              <a:spcBef>
                <a:spcPts val="901"/>
              </a:spcBef>
              <a:buClr>
                <a:srgbClr val="0860a8"/>
              </a:buClr>
              <a:buSzPct val="125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more portable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  <a:p>
            <a:pPr lvl="1" marL="246240" indent="0">
              <a:spcBef>
                <a:spcPts val="22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Download it today: </a:t>
            </a:r>
            <a:r>
              <a:rPr b="0" lang="en-GB" sz="1800" spc="-1" strike="noStrike" u="sng">
                <a:solidFill>
                  <a:srgbClr val="0c2e86"/>
                </a:solidFill>
                <a:uFillTx/>
                <a:latin typeface="Verdana"/>
                <a:hlinkClick r:id="rId1"/>
              </a:rPr>
              <a:t>http://www.tinyos.net/dist-2.0.0</a:t>
            </a:r>
            <a:r>
              <a:rPr b="0" lang="en-GB" sz="1800" spc="-1" strike="noStrike">
                <a:solidFill>
                  <a:srgbClr val="0860a8"/>
                </a:solidFill>
                <a:latin typeface="Verdana"/>
              </a:rPr>
              <a:t> !</a:t>
            </a:r>
            <a:endParaRPr b="0" lang="en-US" sz="1800" spc="-1" strike="noStrike">
              <a:solidFill>
                <a:srgbClr val="0860a8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EDCC3-EBC1-4CF3-A353-6BF3E651F37A}" type="slidenum">
              <a:t>9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1" name="" descr=""/>
          <p:cNvPicPr/>
          <p:nvPr/>
        </p:nvPicPr>
        <p:blipFill>
          <a:blip r:embed="rId1"/>
          <a:srcRect l="8183" t="18082" r="8183" b="18454"/>
          <a:stretch/>
        </p:blipFill>
        <p:spPr>
          <a:xfrm>
            <a:off x="3192480" y="2508120"/>
            <a:ext cx="4581360" cy="184644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Verdana Bold 8 write title of presentation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F1347-3C2B-4C10-A080-685EF2CA3F12}" type="slidenum">
              <a:t>9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09.14.05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11T16:14:46Z</dcterms:created>
  <dc:creator>David Gay</dc:creator>
  <dc:description/>
  <dc:language>en-US</dc:language>
  <cp:lastModifiedBy>David Gay</cp:lastModifiedBy>
  <dcterms:modified xsi:type="dcterms:W3CDTF">2007-02-13T22:09:00Z</dcterms:modified>
  <cp:revision>156</cp:revision>
  <dc:subject/>
  <dc:title>TinyOS 2.0</dc:title>
</cp:coreProperties>
</file>