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C49323-60F1-4A8B-9A57-75C1056CF4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6B490A-CBF9-48A4-B160-20456BF384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7B3103-01E1-4757-89F8-AA3A324B4F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913B31-0F3B-4EE4-8359-B502997DCE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5317E4-3DE2-42CC-B15C-59A4565FD0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345996-F6E0-4397-898A-33B9A10F70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8ADFB3-6D41-4CE5-8D20-1CC5A89F7A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257389-EB27-4C5C-81F8-B1D37C03A8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821491-4524-4A86-93F2-BED5FFE050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193808-C42E-4150-B2DC-6229586BEC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1CED22-C59C-47E9-B32C-7F3D9798E1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73D165-4CED-4CD7-9ED1-EAAE72EDF2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673833-4589-4749-B8CC-D0FF372B5C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FB6372-35E2-498E-A310-606CF7C936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5A28CE-F511-4E83-9972-9A64A66A86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0AEB388-3DE0-4D90-8357-CE3E7731B8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98E0E8-3A63-4825-BD17-C87FF5C9C8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156264-8CD5-4DC8-A99E-788DCD26BA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7FC0FB-2644-462B-A91E-B049F5D23B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E2C42A-A330-45BB-9692-A9C9B63157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2BD82E-6B92-4E4A-B096-C877B0558A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E677A7-2084-435C-BA29-9D5CC0746B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2A930A-DC5C-422A-B8FF-FEA0AF0399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67DF3F-E92F-4CBA-8841-85AA86ABED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9D308-B5BD-4E8E-ABB8-FFF6C566288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FE986-EFB7-4BAC-9405-8EC3BE8963F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9373A27-8BE7-4DB1-A312-C62D3021FB6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6CEDA7F-9F52-4E65-AFBE-256139574E9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A9F35B-DEA8-4990-930B-9FF4F4465AE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39D5A6-B456-4CED-83C7-B0D797ACBED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F37C40-7473-4B79-9DAC-93E7BEAF2F1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CA2F5D-045D-4D6E-85D0-2EC6B0B796A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5A95B5-33FC-47A2-AB54-1E21A882410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58C3BB-3254-403E-8546-FC5577576B0A}"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38CACC-291E-44F7-8524-1E45AD51B875}"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73AD2A-0756-4A61-8AA7-7E4255615C5E}"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7BA88E-8904-4AAB-AD05-08A1E252B05E}"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5B54BC-971D-4227-BDE0-6A9B91ECBB07}"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EE98B7-0074-477B-BB79-FAEB49962F56}"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8D39B7-D9ED-40B9-9DC1-C8C5FD07DAC5}"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C7A9F7-3B00-442A-989A-6A9AC24105CC}"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7F2283-B17D-4476-9CF5-8F784EDE6A14}"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871870-AF49-4FF8-9A21-6FC870E1E31F}"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2F6FDB-2EDA-455E-8FDC-5CD73F4F1595}"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48CAD5-A274-4C67-B16F-1D90833BADAE}"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FFAD7C-112D-43DE-B7AD-C2E58256AB71}"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7DC051-45E2-4565-A7C4-34AB2DA2801F}"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507A87-AB87-49D8-9A91-534680D0F6C3}"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951BBC-7F20-4974-AD66-7086555F00F8}"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6630D5-870A-4706-B4DF-E59752BF37F7}"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6477F8-AF79-4654-AC38-2409E3326B68}"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8EF8B7-8EAC-4259-873A-04B80F4CBB3B}"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33BB3D-EFD6-49AF-A769-57048729CC52}"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31BEA89-1079-4346-9ECB-D05A2BF5C5FE}"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C905F4-09BA-40D7-A9B8-50FCF429BA40}"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E13ED8-9870-4D0C-BA9D-E0398667D36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A579B6-03FD-490B-918C-B8BD022940FC}"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EE79C0-AF2A-4379-8C21-5D51E7D30B71}"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672284-60B0-4D1D-A019-20F66999B114}"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243463-713A-4C38-B210-04119215858A}"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E0D52E-0925-48F6-82DF-61349D1439C4}"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151024-D81E-48F2-8DB5-990CF1EB5EB2}"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211253-B123-4887-975E-826808D13699}"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744FFE-E568-4247-AC36-AA03037C1410}"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B242C6-AFC4-4185-BA78-6C7168A54F52}"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1D1AD4-C913-4D4E-BD16-3FD687723A0A}"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62D608-C967-4104-9125-B7289B82AC27}"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0F2DBE-14F8-46C2-AA49-32CBE9FF5593}"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0017BF-7B01-48CC-9522-090415B45AA7}"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2A9744-CF2B-45AB-A4C8-0E1E1D9DB58B}"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AF87BE-779B-4C11-8E9C-8C18286C282F}"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8A37E7-3803-4A8C-8173-A5FC878122DC}"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0D842F-7BAD-4725-B9B9-8EC35635189A}"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49946C-9964-48CB-87DD-32C70927BBCD}"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7CFDDB8-8A6E-48A3-9219-387E4EEBE56E}"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AAAEEF-E383-4BB3-9220-8F2D52E5784C}"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0B3BC0-CA9C-4DB0-8B30-D8369E054586}"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CCF8E16-9BE8-4F63-90C0-09967F6FF3A8}"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C2CB1F-6EED-401E-B8DA-2C3F2359D2E7}"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0D77E2-0D87-4C30-B023-3DE82982CFA3}"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1157C4-DBD7-454E-9E24-BB1B1A7BCC18}"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E363F9-4542-4E5E-881B-EEBCF810D166}"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29EE4D-7EC1-41C3-BDA0-10051433F26C}"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DD65B8-34E3-409D-A05F-C545979930BB}"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D12BAD-24A0-447E-A113-3F12EEE33483}"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0E5A749-9534-45D7-864C-60D549B9F188}"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F2A71F-EDBB-41A8-8FA3-805F82FCF521}"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22FE3E-0B0D-4320-8308-CE59A9AD6399}"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C392B7-B3E5-46A6-A9B3-B56D6BEFA4A8}"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ECB422-A5EA-4D31-8BDB-6E831D55F8FA}"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825556-ECD9-4E40-9E80-9C8FB3A84CF3}"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2E4086A-574D-49F4-9168-51BE6BDCE3F7}"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E6C0FE-4EE5-4A6A-93FB-5EFD58BC932A}"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77E4E0-3487-451F-B2AE-853FD03BCAE9}"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B556D7-7E10-4067-9523-AF5A8C87A2E6}"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45B3B7-6CF0-41EC-BF46-DDFC7E69B915}"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9E6F7AF-30BC-4494-A99D-F7EFB8C1530E}"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E2E970-7FA2-4293-A70E-9569A2CF846A}"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95CBAB-B3B2-4C3C-8297-D9AC95AA198E}"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959EF9-465E-459A-99DA-8EEDECEDDDBF}"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4D0157-3657-4D4E-A9E4-8D0BBBFB46A5}"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93B18F-940E-4DED-BCA7-4487B802BAA3}"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A23E00-AF0C-4B29-9F61-9C0DF8EE4D17}"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C992D7A-5E18-4C96-94FC-7ACC3C055B8B}"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10E1D9-E139-4780-871C-AE54B8CDE0B2}"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EADDCC-6576-4745-9A35-2502BEF7C76A}"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618544-EB28-4A63-AA02-A82B942E5D80}"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3ADB368-6D4B-4D15-8489-4B9D8C62E3C1}"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57E996-F872-4865-96A8-44478CAE271B}"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66168A7-1BD1-4059-82B9-C979C6174604}"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A1F5F5-C45B-4414-A163-B5CA5DB7EA90}"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649D8E-4A72-4FF8-BE12-9B8A9A2E9C0C}"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F25739-3A3C-4149-93DA-3C3C687CE121}"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DE7AFC-FDEB-4298-9CE7-455462E9EA8E}"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9DED8A-9E13-413B-8F94-2E38C7B2919B}"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CC5BBE-9B29-482E-B6DD-7AAD7B95BE4B}"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9E6AFD-8C1E-42D8-999D-A3C7D9D81EC5}"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74C637-15C9-4EF8-A089-5DD59E234988}"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AA266F-BD20-426C-9279-063BAEDC8366}"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D54867-2A9F-4566-AA82-80A2E6478E06}"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EAB03A-9BC2-41BD-BAF1-A23BF611AEAE}"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505D06-0264-4F87-AE4B-CBD538C895D8}"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F88979-7704-4B0F-85B9-65C783F0651E}"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C19623-D61C-4744-91F0-682A167AB03B}"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9C4376-D808-4911-9659-C7CA54ED2C89}"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C20531E-9B27-4942-B63F-47C7CB4E0687}"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7567E1-4803-4B7F-808C-C20B82C7083D}"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4C755E-5E15-4BB7-A09B-B21B31B1FA50}"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452706-8424-407C-A54F-626F6AC40849}"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F08F93-398D-4500-8E36-038F9A4056CA}"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BBE393-52EF-40CF-97FB-22EC23FA203F}"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8F0FC7-FE26-4EC0-A900-4F1DCA6675A6}"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6FFDCA-4E22-41D7-879F-59ED50518819}"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6D294C-42F3-4CBF-93D0-17B708341D79}"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2E23E6-26F6-47F2-B848-DE6D3214F70B}"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A5D58D-6DAE-4101-8FBE-59E8D5F19EE9}"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F07504-0911-4275-84AA-D2DAC10705EF}"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D7A119-E54B-48AB-9872-7EE557D881C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CD0124-718D-4120-A705-B7C115A767FF}"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928948-1EE6-40F3-B9BD-D64E4D3AAABD}"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06A77B-602A-4EEA-8774-962CEEFAE85F}"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60A8D5-ABCD-4FAD-909D-69B40693ED56}"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F34D47-6CF2-476B-AB8E-B5F157795B61}"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656FA5-1111-4B88-AC04-BAA6366F4C36}"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A0159F-9EF1-4EBE-876E-CBC9294D1A40}"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B134CA-0719-4381-9F97-3ED545BB428A}"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07E6AE-A68C-4C80-83F9-7371FDFB733B}"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9639B4-3CF6-427A-9D76-CAA09B6F7A0C}"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BC680D-72B1-4B5C-A133-AD28CE0F500D}"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2636A0-CBE5-4008-8385-1531889660A4}"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CAF6A1-26BF-4946-BAE9-E7564D7A81BD}"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42B15F-DA0B-4DB6-AD54-AB5A763C4B75}"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A4E3BE-DCDF-48A6-9ECA-E8A66F05CD1D}"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209E6D8-380A-46F0-8037-D44A7D1D9FC6}"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6F7C5A-F008-4AC0-8637-10C97679258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BF42B1-6D42-4719-96E0-67F3C1326BE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AC713D-E8D7-4A21-8BB3-1D88C93E8A6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0557E7-294A-4867-B73F-39F5C3C5221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468494-58A0-41AD-BDF4-8F1F8FC7DA5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CA37F0-0BB0-4730-955E-66041C31776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06C64B4-C3D5-4210-BCFE-95A1D661D6C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156265-5C6E-4503-836E-6D120DEAD8F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B31A91-8C19-4B5F-8117-01C5DA6DB5C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6A2BF0-3399-4426-BD08-30466A71A06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0616D0-DB6D-456B-A80A-9AF892D6BF8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1D2408-7198-4C2F-A03F-B5D3AA99584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ABE31F-22D0-48AB-9C86-FAFC9395F10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E662E1-2B9B-46C3-8635-7B79AEEAE40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4B0D3C-257D-4C42-A1E6-8AB88383913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FCE328-685B-4A7A-896D-AA6E58164BE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588AE1-EC46-4706-A513-B476B4BD243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8EAE31-6DF5-45FA-829F-F3E14D8CB7B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7DE00D-EF1A-46AC-A8DE-831B34EE645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DE38C7-D596-4B97-BAB5-F0DA780C296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128054-8A7B-4307-B6B7-750A1988D34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A24390-7EF7-4EA4-94D7-F2A4E91EB94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995BFA-C3A1-4AC3-A277-79D85921C9C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39AA2C-6ADD-4D59-BCC1-BD2C5A7BF4F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5713B9-752B-4F60-A59B-2267C058F9A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7CFBFD-7AD3-4565-A198-67E418FB5F4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148831-2275-4478-90F3-30319712545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9A6EA3-8FA3-4D53-9E76-FD05ABE1A08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E3B2F0-7182-49A2-A121-D4583B510A9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92201C-014E-48B2-8F9E-4B6982F9834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D626AF-C9A8-4714-BBD5-7EC8E4C6180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B0CDF3-9DC3-47BC-871E-1608C6A83E3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DA2002-D52A-43FA-AD1B-D00D31016BA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71D9BA-44AF-45F1-9CB2-2011C5BDF2F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659874-0FAF-4CFA-88D2-1A154D038DF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C5E06F-6030-4D2E-90D2-E3239E9303F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A9AF34-996F-4DF0-A921-17A81D8F393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967230-AEC4-464B-B021-E80FB01BCCD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480602-4672-4CC1-B7D6-260F1383B2A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8207BC-4B01-416D-A2F1-F380FB627CF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8D8293-2DD8-40BB-81F7-CA6DD9C9220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FEAEA7-5582-4DC2-B109-E082F8E85B8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6DB50B-2270-4FD0-B1AA-68EBF1D8BD9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4F37B3-AEAD-4783-995E-5E7B382DBB2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889261-1FEE-4474-8E1D-A8C79E3F74F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75E483-9BA1-41D7-9C09-90566EEF225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8241E5-6146-460E-A844-29D40A4C4A5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46710CA-B440-47BF-B39E-CFDB51FA34D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157FA2-D31F-47C5-9570-6747E789635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C80FBA-8D02-4972-858D-77AECBB32E2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77EAFC-7B04-46E0-A72D-347FCEEDD67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02C469-F455-41BD-9230-F37DBB51D64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220423-BC80-4CDB-AF35-714ED797BA4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7D9079-3316-45EA-8737-58B137FD90A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2D0C0D-2FFD-4866-B30D-DBECB6438DB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C051EB-420F-4FFE-B640-5554BF1CDFC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B8C1AD1-01A0-468F-A6C2-6D80FDD5C56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B9BB8E-1BDB-46D0-B81F-4D395568160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CBE432-6863-4D38-B952-2EB22E892A8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10984F-FF14-4D1C-BC01-88B1C84BD17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691EC9-58FE-49F8-9BFB-F1A85F87E89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A6CFB3-E701-45A4-A63D-969456655CA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018B13-ED7A-4B32-BB7C-9C8955A4703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B7DD14-D291-4DC6-8997-D661FE3E953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A648B9-20BF-4F97-A30C-1B1B5AD1079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A0D030-B2B9-4399-9544-A07C63EA40F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934473-56C0-4C7B-A41F-1B945A1F61B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BFFE53-0638-4E6C-ABD4-8ED02D6E6AB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B78697-EE2F-40D1-8B0E-5F256C3CB44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073909-AABC-4FCA-ACEA-2C9E9D6ABEF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91B4BA-52CF-446E-A3F0-1C534ED5776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DA51EBE-75DD-41CD-B9FB-FD2E48BC7A4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684511-920D-4769-851B-8E7B16AE672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392BC1-5D13-44E3-B231-727A8552861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5E5A0E-A9B2-4FFF-A034-429CC7E701F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A2F7F9-AC25-4124-AD52-9ED1EB4B639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24DED8-5E41-432F-914B-EAB4B72EEC8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B36EA9-C6A1-4D11-8479-349FF66DD7D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821189-F4E4-4FA3-A6DA-EC88191B333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FFB06A-132A-4777-8468-ED44CCBD481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562235-04BE-4C10-B8B8-700FF472D55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A42C04-E3E2-4740-BE06-947F4F3E53F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92DF82-7129-4268-8DCF-0C8A5EA1162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548ACC-9B2F-452B-97F9-AEB2F78A89C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AB5A22-B912-4DD6-BC66-5E7268A2422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