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60422"/>
        <c:axId val="35336676"/>
      </c:barChart>
      <c:catAx>
        <c:axId val="48360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36676"/>
        <c:crosses val="autoZero"/>
        <c:auto val="1"/>
        <c:lblAlgn val="ctr"/>
        <c:lblOffset val="100"/>
        <c:noMultiLvlLbl val="0"/>
      </c:catAx>
      <c:valAx>
        <c:axId val="35336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60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4A4-ADEE-436B-B1B7-5AAAC77C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D6C-4DCD-4102-B088-B7D71786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A98-7DCD-4080-BA10-1E1EF54A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641-31B9-4BD8-832A-B6A7EB80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A4E-2C64-40CB-B578-E0712326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169-DCD3-487C-BF7F-FF009361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228-0A42-427F-A629-BCCB5194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296-B050-4998-9C3F-3F790E4E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778-61EC-4287-8A0A-923D30B9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874-EA17-471A-917D-60BE379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72D-74A0-40FF-ABD5-4A377818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1CD-9611-4B5D-B31B-E7BE059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EEEF8-1EE0-4477-85E1-A8190F569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