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3176"/>
        <c:axId val="37627425"/>
      </c:barChart>
      <c:catAx>
        <c:axId val="9393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27425"/>
        <c:crosses val="autoZero"/>
        <c:auto val="1"/>
        <c:lblAlgn val="ctr"/>
        <c:lblOffset val="100"/>
        <c:noMultiLvlLbl val="0"/>
      </c:catAx>
      <c:valAx>
        <c:axId val="376274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3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E33-23A8-44A7-A781-5F22CE0C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D01-CEA4-42DC-9B57-145004E3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185-73CC-4C83-BB63-C992B6B1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2DF-C018-44EF-9FC2-9ED787A3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F7C-C1F5-4093-9B9F-160F2D9F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82F-59C8-4D3F-AA94-CC58DF83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E7D-D07F-41F2-B59C-45C0B3CE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829-1D3B-49A6-9015-4AD1F150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DA5C-09C9-4104-973E-0D44B4A6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43C-033F-4F69-A362-C6A6F36C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A39-613A-4DED-BC5C-33D5893B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DAF-79FF-452F-90E0-7A995708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732E2-EF0D-4683-8A7F-A428486C2F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